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B5A-3DAB-4002-8B73-B3467615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AF7-F941-4472-8344-6B3D661D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D15-0483-456D-9FBC-23A081CE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70B-A59E-45B0-B0C5-0236591F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5B6-BF1E-4635-B357-262F1B7F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761-CA87-451D-9A59-31B35CBA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E5F-0CE9-4458-9E7A-BCCD4F3B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26C-E71F-4193-8D72-58EB55AA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B1C-3AEA-45E7-91EB-50AAB247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37D-E217-4C0C-912E-4C0F326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25E-1D91-44BB-A902-881B772F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865-401A-47CE-B629-6D5E7759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1981-B204-490A-BA9A-3BB40A2017B7}" type="datetime">
              <a:rPr b="0" lang="sk-SK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D326-9437-4991-9753-37AEC97C1806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800" spc="-1" strike="noStrike">
                <a:solidFill>
                  <a:srgbClr val="000000"/>
                </a:solidFill>
                <a:latin typeface="Calibri"/>
              </a:rPr>
              <a:t>Šoroskere ginutne  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800" spc="-1" strike="noStrike">
                <a:solidFill>
                  <a:srgbClr val="000000"/>
                </a:solidFill>
                <a:latin typeface="Calibri"/>
              </a:rPr>
              <a:t>Radove číslovky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hteck 5"/>
          <p:cNvSpPr/>
          <p:nvPr/>
        </p:nvSpPr>
        <p:spPr>
          <a:xfrm flipV="1" rot="10800000">
            <a:off x="179280" y="6381720"/>
            <a:ext cx="896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Copyright by QualiRom    SVIATKY A OSLAVY   a1_east-slovak_secondary_sk_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000000"/>
                </a:solidFill>
                <a:latin typeface="Calibri"/>
              </a:rPr>
              <a:t>Radové číslovky, okrem prvý a druhý sa v rómčine tvoria prevzatou príponou – </a:t>
            </a:r>
            <a:r>
              <a:rPr b="1" lang="sk-SK" sz="4000" spc="-1" strike="noStrike">
                <a:solidFill>
                  <a:srgbClr val="c00000"/>
                </a:solidFill>
                <a:latin typeface="Calibri"/>
              </a:rPr>
              <a:t>to </a:t>
            </a:r>
            <a:r>
              <a:rPr b="1" lang="sk-SK" sz="4000" spc="-1" strike="noStrike">
                <a:solidFill>
                  <a:srgbClr val="000000"/>
                </a:solidFill>
                <a:latin typeface="Calibri"/>
              </a:rPr>
              <a:t>(platí to aj pre mužský a ženský rod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Deš  – u jekh( základná číslovka )+ prípona  to =dešujekh</a:t>
            </a: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to</a:t>
            </a: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   jedená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Biš – u jekh( základná číslovka)+prípona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= bišjekh</a:t>
            </a: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to</a:t>
            </a: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 - dvadstiatyprv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ußzeilenplatzhalter 3"/>
          <p:cNvSpPr/>
          <p:nvPr/>
        </p:nvSpPr>
        <p:spPr>
          <a:xfrm>
            <a:off x="0" y="6381720"/>
            <a:ext cx="8388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SVIATKY A OSLAVY   a1_east-slovak_secondary_sk_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8920" y="691920"/>
            <a:ext cx="91076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trin-</a:t>
            </a:r>
            <a:r>
              <a:rPr b="1" lang="sk-SK" sz="2800" spc="-1" strike="noStrike">
                <a:solidFill>
                  <a:srgbClr val="c00000"/>
                </a:solidFill>
                <a:latin typeface="Calibri"/>
              </a:rPr>
              <a:t>to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  = trinto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tretí / tret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štár</a:t>
            </a:r>
            <a:r>
              <a:rPr b="1" lang="sk-SK" sz="2800" spc="-1" strike="noStrike">
                <a:solidFill>
                  <a:srgbClr val="c00000"/>
                </a:solidFill>
                <a:latin typeface="Calibri"/>
              </a:rPr>
              <a:t>-to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= štárto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štvrtý / štvr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pandž</a:t>
            </a:r>
            <a:r>
              <a:rPr b="1" lang="sk-SK" sz="2800" spc="-1" strike="noStrike">
                <a:solidFill>
                  <a:srgbClr val="c00000"/>
                </a:solidFill>
                <a:latin typeface="Calibri"/>
              </a:rPr>
              <a:t>-to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 = pandžto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piaty / pi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ezeros ochto šel trandatheduj</a:t>
            </a:r>
            <a:r>
              <a:rPr b="1" lang="sk-SK" sz="2800" spc="-1" strike="noStrike">
                <a:solidFill>
                  <a:srgbClr val="c00000"/>
                </a:solidFill>
                <a:latin typeface="Calibri"/>
              </a:rPr>
              <a:t>-to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ezeros ochto šel trandatheduj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tisíc -  osemsto -  tridsiatydruh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c00000"/>
                </a:solidFill>
                <a:latin typeface="Calibri"/>
              </a:rPr>
              <a:t>číslovka prvý - perš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Jov  hin angutno/ peršo. 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On je prv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Man hin o berša andro angutno/peršeto  febru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Ja mám narodeniny prvého februá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WordArt 2" descr=""/>
          <p:cNvPicPr/>
          <p:nvPr/>
        </p:nvPicPr>
        <p:blipFill>
          <a:blip r:embed="rId1"/>
          <a:stretch/>
        </p:blipFill>
        <p:spPr>
          <a:xfrm>
            <a:off x="2279520" y="-6480"/>
            <a:ext cx="4084920" cy="1086120"/>
          </a:xfrm>
          <a:prstGeom prst="rect">
            <a:avLst/>
          </a:prstGeom>
          <a:ln w="0">
            <a:noFill/>
          </a:ln>
        </p:spPr>
      </p:pic>
      <p:sp>
        <p:nvSpPr>
          <p:cNvPr id="50" name="Fußzeilenplatzhalter 3"/>
          <p:cNvSpPr/>
          <p:nvPr/>
        </p:nvSpPr>
        <p:spPr>
          <a:xfrm>
            <a:off x="179280" y="6453360"/>
            <a:ext cx="8280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SVIATKY A OSLAVY   a1_east-slovak_secondary_sk_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sk-SK" sz="2400" spc="-1" strike="noStrike">
                <a:solidFill>
                  <a:srgbClr val="c00000"/>
                </a:solidFill>
                <a:latin typeface="Arial Black"/>
              </a:rPr>
              <a:t>Číslovka druhý / dujto </a:t>
            </a:r>
            <a:br>
              <a:rPr sz="2400"/>
            </a:br>
            <a:r>
              <a:rPr b="1" i="1" lang="sk-SK" sz="2400" spc="-1" strike="noStrike" u="sng">
                <a:solidFill>
                  <a:srgbClr val="c00000"/>
                </a:solidFill>
                <a:uFillTx/>
                <a:latin typeface="Calibri"/>
              </a:rPr>
              <a:t>Ak ide o poradie, pridáme koncovku -to :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platí aj pre mužský a ženský rod)</a:t>
            </a:r>
            <a:br>
              <a:rPr sz="2400"/>
            </a:br>
            <a:br>
              <a:rPr sz="2400"/>
            </a:br>
            <a:r>
              <a:rPr b="1" i="1" lang="sk-SK" sz="2400" spc="-1" strike="noStrike" u="sng">
                <a:solidFill>
                  <a:srgbClr val="c00000"/>
                </a:solidFill>
                <a:uFillTx/>
                <a:latin typeface="Calibri"/>
              </a:rPr>
              <a:t>Druhý v rade / v poradí - dujto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Miro duj</a:t>
            </a: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to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 phral.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        Môj druhý brat.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Bišuduj</a:t>
            </a: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t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andro čhon.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Dvadsiatehodruhého v mesiaci</a:t>
            </a:r>
            <a:br>
              <a:rPr sz="2400"/>
            </a:b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Ak ide len o dva predmety alebo len dve osoby použijeme slovo – Aver.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Andro amaro kher bešen duj famiľiji.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Jekh bešel upre, </a:t>
            </a: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aver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tele.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 našom dome bývajú dve rodiny.      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Jedna býva hore, druhá dole.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Džan pro </a:t>
            </a: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aver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 sera!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Choďte na druhú stranu!</a:t>
            </a:r>
            <a:br>
              <a:rPr sz="2400"/>
            </a:b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Aver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 manuš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Druhí ľudi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ußzeilenplatzhalter 2"/>
          <p:cNvSpPr/>
          <p:nvPr/>
        </p:nvSpPr>
        <p:spPr>
          <a:xfrm>
            <a:off x="0" y="6453360"/>
            <a:ext cx="8820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SVIATKY A OSLAVY   a1_east-slovak_secondary_sk_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10:07:28Z</dcterms:created>
  <dc:creator>Gitka</dc:creator>
  <dc:description/>
  <dc:language>en-US</dc:language>
  <cp:lastModifiedBy>Administrator</cp:lastModifiedBy>
  <dcterms:modified xsi:type="dcterms:W3CDTF">2013-02-26T10:51:19Z</dcterms:modified>
  <cp:revision>5</cp:revision>
  <dc:subject/>
  <dc:title>Snímka 1</dc:title>
</cp:coreProperties>
</file>