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CFCA-1B31-441E-8056-D3BA6E718DC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8638-8121-4A38-BA48-E248E930886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A349-17CE-4905-A5C2-2630DB65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A2CB-8B94-4F96-9B07-9AA3B51A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DB6-E498-4285-9A76-938DA80E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79DA-F90D-498D-93AE-C13EA03C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FAD4-6162-4326-A2C7-F1DFCED5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6D0D-5121-419B-9168-0B7BE614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8671-42FD-44A4-8A0F-C1010A40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9B8A-31C4-4FB1-B0A1-1F0352B0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C230-08AB-4AE3-91F6-2EBD1F23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0322-3A93-4937-A1D4-B01EE16D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630C-9C57-4881-8558-F5A47E54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72D4-46F3-4BBD-B4FF-A9F83FC5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4B62-1D0A-42B9-BF7A-4BDEEA29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389B-63DF-424E-ABC8-80E24CA0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461E-D1D9-4C21-94A3-7188AFCE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69E7-F68F-4179-B131-84976A94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39D7-FB33-48BE-A46C-4FBB076A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D2AE1-CA99-4F17-9160-BB5F1290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8391F-2AD1-4A6C-B0F4-FB0E5307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E7F20-7B1B-48C6-9D7F-AC66D2BC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F2651-9FD9-4ADD-B9F6-0181FC81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3FEAD-D086-41D7-8481-333F240E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4AE-8DED-41FD-834D-6E23BD3C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D7614-9BC6-446B-8F25-1BB2015C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A67C5-2562-4742-B188-CFBC086A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917C0-7B22-412C-9810-497AF2EB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5017-7C14-4D9E-8F21-2C2A3FC1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26E60-1D88-4166-8554-FBBF772A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E8078-F675-4168-AEA1-582B7472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CAE53-5FDC-4A78-B714-3A2B28FF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44283-234B-49E9-BD49-85294873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AF038-9B07-40F2-9372-DDD5432C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F4AF4-7B55-4A8E-BFEB-B855D4FD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F86-02C8-46A2-A31D-19F0401E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CA3C5-BF1D-45A3-BBFB-35D63729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B63D3-4406-4C43-8632-29DEA86C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AC8F7-28F0-4E2B-B54D-0C2FB2D5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593CA-8E98-4A49-864A-22E8BA53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875B6-A094-498E-9A5E-78712C1C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B8517-7CC9-4E5C-8B41-4FBFA126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14721-BF51-403E-8030-0ACC2B12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74D56-DE66-47AD-88C5-7E45E33A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CBAD0-AA72-468C-B914-0092ADA3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F4C82-B24F-436E-A33C-DEC2FDC2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16D-E3FC-45F7-9DE2-9BECD663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297AC-EED5-42D7-977E-2AEB5464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C2EF6-A88E-4F56-A496-89057481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CDBB7-FB62-42CE-9C0B-B6999049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2F4AA-C04A-434D-B472-C56F8B40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E0028-856F-419D-A98B-36BC869D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1A8E7-00A7-44DE-8961-1632145A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70131-63BF-43A3-AC51-1AD81841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91F24-D518-4DAE-B14A-D2CA4300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7E308-6213-4382-A9DC-77FA60FE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05F56-12CA-49B2-A662-97BDA4E4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BD53-10A6-4D47-9BB6-E2FC172C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F2DE7-35A7-4A97-8BC7-2CEFF003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FFC0-A35E-4860-8FD5-E388CA9E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278-6C60-4A16-B702-005FED6C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04A-DF6C-4729-A4FD-C13CEC66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dĺžnik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Obdĺžnik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5042-AA28-4357-9F22-5958A576E161}" type="datetime">
              <a:rPr b="0" lang="sk-SK" sz="1000" spc="-1" strike="noStrike">
                <a:solidFill>
                  <a:srgbClr val="b13f9a"/>
                </a:solidFill>
                <a:latin typeface="Trebuchet MS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A85C-CAC6-4B84-968A-17220D7EF760}" type="slidenum">
              <a:rPr b="0" lang="sk-SK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bdĺžnik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Obdĺžnik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ovná spojnica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D80D-1AAC-4412-B43D-5198A93F6E45}" type="datetime">
              <a:rPr b="0" lang="sk-SK" sz="1000" spc="-1" strike="noStrike">
                <a:solidFill>
                  <a:srgbClr val="ffffff"/>
                </a:solidFill>
                <a:latin typeface="Trebuchet MS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B379-5FC6-4D5B-93AD-9D841DA6D0F1}" type="slidenum">
              <a:rPr b="0" lang="sk-SK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bdĺžnik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Obdĺžnik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9202-E6E5-4EA4-95DC-10EB233E3FF7}" type="datetime">
              <a:rPr b="0" lang="sk-SK" sz="1000" spc="-1" strike="noStrike">
                <a:solidFill>
                  <a:srgbClr val="b13f9a"/>
                </a:solidFill>
                <a:latin typeface="Trebuchet MS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A054-3084-41D9-AE00-C694E64033CD}" type="slidenum">
              <a:rPr b="0" lang="sk-SK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dĺžni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ĺžni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B5B2-74EE-422B-809F-A17182140906}" type="datetime">
              <a:rPr b="0" lang="sk-SK" sz="1000" spc="-1" strike="noStrike">
                <a:solidFill>
                  <a:srgbClr val="f4e7ed"/>
                </a:solidFill>
                <a:latin typeface="Trebuchet MS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F203-B3CF-4AFE-BB34-E69E82A26F49}" type="slidenum">
              <a:rPr b="0" lang="sk-SK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Obdĺžnik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Obdĺžnik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35CC-DBB1-4384-BE70-B523BE9D84A8}" type="datetime">
              <a:rPr b="0" lang="sk-SK" sz="1000" spc="-1" strike="noStrike">
                <a:solidFill>
                  <a:srgbClr val="b13f9a"/>
                </a:solidFill>
                <a:latin typeface="Trebuchet MS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5784-DD6C-4E85-8A2D-A0BD19F9EE23}" type="slidenum">
              <a:rPr b="0" lang="sk-SK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Nadpis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1835280" y="2205000"/>
            <a:ext cx="4179600" cy="3203640"/>
          </a:xfrm>
          <a:prstGeom prst="rect">
            <a:avLst/>
          </a:prstGeom>
          <a:ln w="0">
            <a:noFill/>
          </a:ln>
        </p:spPr>
      </p:pic>
      <p:sp>
        <p:nvSpPr>
          <p:cNvPr id="229" name="Fußzeilenplatzhalter 3"/>
          <p:cNvSpPr/>
          <p:nvPr/>
        </p:nvSpPr>
        <p:spPr>
          <a:xfrm>
            <a:off x="457200" y="6524640"/>
            <a:ext cx="7570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Copyright by QualiRom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 Príroda a zvierata 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a1_east-slovak_secondary_sk_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Nadpis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1547640" y="1989000"/>
            <a:ext cx="4800600" cy="3714840"/>
          </a:xfrm>
          <a:prstGeom prst="rect">
            <a:avLst/>
          </a:prstGeom>
          <a:ln w="0">
            <a:noFill/>
          </a:ln>
        </p:spPr>
      </p:pic>
      <p:sp>
        <p:nvSpPr>
          <p:cNvPr id="233" name="Fußzeilenplatzhalter 4"/>
          <p:cNvSpPr/>
          <p:nvPr/>
        </p:nvSpPr>
        <p:spPr>
          <a:xfrm>
            <a:off x="457200" y="6524640"/>
            <a:ext cx="7570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Copyright by QualiRom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 Príroda a zvierata 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a1_east-slovak_secondary_sk_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Nadpis 1" descr=""/>
          <p:cNvPicPr/>
          <p:nvPr/>
        </p:nvPicPr>
        <p:blipFill>
          <a:blip r:embed="rId1"/>
          <a:stretch/>
        </p:blipFill>
        <p:spPr>
          <a:xfrm>
            <a:off x="353880" y="317520"/>
            <a:ext cx="7351920" cy="1150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3203640" y="249228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236" name="Fußzeilenplatzhalter 3"/>
          <p:cNvSpPr/>
          <p:nvPr/>
        </p:nvSpPr>
        <p:spPr>
          <a:xfrm>
            <a:off x="457200" y="6453360"/>
            <a:ext cx="76438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Copyright by QualiRom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 Príroda a zvierata 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a1_east-slovak_secondary_sk_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Nadpis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2411280" y="2781360"/>
            <a:ext cx="4507200" cy="2987640"/>
          </a:xfrm>
          <a:prstGeom prst="rect">
            <a:avLst/>
          </a:prstGeom>
          <a:ln w="0">
            <a:noFill/>
          </a:ln>
        </p:spPr>
      </p:pic>
      <p:sp>
        <p:nvSpPr>
          <p:cNvPr id="239" name="Fußzeilenplatzhalter 3"/>
          <p:cNvSpPr/>
          <p:nvPr/>
        </p:nvSpPr>
        <p:spPr>
          <a:xfrm>
            <a:off x="457200" y="6453360"/>
            <a:ext cx="77151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Copyright by QualiRom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 Príroda a zvierata 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a1_east-slovak_secondary_sk_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Nadpis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2028960" y="2185920"/>
            <a:ext cx="4095720" cy="3695760"/>
          </a:xfrm>
          <a:prstGeom prst="rect">
            <a:avLst/>
          </a:prstGeom>
          <a:ln w="0">
            <a:noFill/>
          </a:ln>
        </p:spPr>
      </p:pic>
      <p:sp>
        <p:nvSpPr>
          <p:cNvPr id="242" name="Fußzeilenplatzhalter 3"/>
          <p:cNvSpPr/>
          <p:nvPr/>
        </p:nvSpPr>
        <p:spPr>
          <a:xfrm>
            <a:off x="457200" y="6237360"/>
            <a:ext cx="7715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Copyright by QualiRom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 Príroda a zvierata 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a1_east-slovak_secondary_sk_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Nadpis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2700360" y="2637000"/>
            <a:ext cx="4265640" cy="3311280"/>
          </a:xfrm>
          <a:prstGeom prst="rect">
            <a:avLst/>
          </a:prstGeom>
          <a:ln w="0">
            <a:noFill/>
          </a:ln>
        </p:spPr>
      </p:pic>
      <p:sp>
        <p:nvSpPr>
          <p:cNvPr id="245" name="Fußzeilenplatzhalter 3"/>
          <p:cNvSpPr/>
          <p:nvPr/>
        </p:nvSpPr>
        <p:spPr>
          <a:xfrm>
            <a:off x="457200" y="6453360"/>
            <a:ext cx="75708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Copyright by QualiRom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 Príroda a zvierata 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a1_east-slovak_secondary_sk_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Nadpis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3"/>
          <a:stretch/>
        </p:blipFill>
        <p:spPr>
          <a:xfrm>
            <a:off x="971640" y="1989000"/>
            <a:ext cx="1908000" cy="2556000"/>
          </a:xfrm>
          <a:prstGeom prst="rect">
            <a:avLst/>
          </a:prstGeom>
          <a:ln w="0">
            <a:noFill/>
          </a:ln>
        </p:spPr>
      </p:pic>
      <p:sp>
        <p:nvSpPr>
          <p:cNvPr id="249" name="Fußzeilenplatzhalter 4"/>
          <p:cNvSpPr/>
          <p:nvPr/>
        </p:nvSpPr>
        <p:spPr>
          <a:xfrm>
            <a:off x="457200" y="6453360"/>
            <a:ext cx="76438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Copyright by QualiRom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 Príroda a zvierata 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a1_east-slovak_secondary_sk_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Nadpis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1476360" y="3357720"/>
            <a:ext cx="2543040" cy="1800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3"/>
          <a:stretch/>
        </p:blipFill>
        <p:spPr>
          <a:xfrm>
            <a:off x="5003640" y="2349360"/>
            <a:ext cx="2009880" cy="1209960"/>
          </a:xfrm>
          <a:prstGeom prst="rect">
            <a:avLst/>
          </a:prstGeom>
          <a:ln w="0">
            <a:noFill/>
          </a:ln>
        </p:spPr>
      </p:pic>
      <p:sp>
        <p:nvSpPr>
          <p:cNvPr id="253" name="Fußzeilenplatzhalter 4"/>
          <p:cNvSpPr/>
          <p:nvPr/>
        </p:nvSpPr>
        <p:spPr>
          <a:xfrm>
            <a:off x="457200" y="6524640"/>
            <a:ext cx="59864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Copyright by QualiRom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 Príroda a zvierata 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a1_east-slovak_secondary_sk_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6:56:17Z</dcterms:created>
  <dc:creator>Skola</dc:creator>
  <dc:description/>
  <dc:language>en-US</dc:language>
  <cp:lastModifiedBy>Administrator</cp:lastModifiedBy>
  <dcterms:modified xsi:type="dcterms:W3CDTF">2013-02-26T12:32:09Z</dcterms:modified>
  <cp:revision>5</cp:revision>
  <dc:subject/>
  <dc:title>O frukti</dc:title>
</cp:coreProperties>
</file>