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68E-3D02-4958-8772-D70D8AD7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C2C-0D30-437E-8C05-58B32A45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73E-3720-4AC4-8468-4078A56C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ABD-009E-466B-BB44-B9C5DB63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182-9E9C-42E7-91A9-CAA06FAF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348-596D-4BC0-A6F7-9765ED9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AEA-CF8C-4094-BEB6-7BA351A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403-6853-4C1C-B465-5621143A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98B-15D7-43B3-BEBF-13013346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023-0A1D-422B-90E1-CC8B2B7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FF1-3A0B-4866-A792-49314E6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630-2AD0-4C3E-A69A-8394BAA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4DC-32BE-4F38-A2D9-5400D4BE55E8}" type="slidenum">
              <a:rPr b="0" lang="sk-SK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33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285840"/>
            <a:ext cx="9572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Sg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slovensky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rómsky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1. Môj, Moja, Moje                 Miro – Mro, Miri - Mri, Mire.- Mr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2. Tvoj, Tvoja, Tvoje              Tiro – Tro, Tiri - Tri, Tiro - Tr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3. Jeho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Leskero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Jej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Laker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Pl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slovensky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          rómsk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Náš, Naša, Naše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          Amaro, Amari, Amar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Váš, Vaša, Vaše                    Tumáro, Tumari, Tumar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Ich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                 Lenger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Nadpis 1" descr=""/>
          <p:cNvPicPr/>
          <p:nvPr/>
        </p:nvPicPr>
        <p:blipFill>
          <a:blip r:embed="rId1"/>
          <a:stretch/>
        </p:blipFill>
        <p:spPr>
          <a:xfrm>
            <a:off x="725400" y="-6480"/>
            <a:ext cx="7832880" cy="1633680"/>
          </a:xfrm>
          <a:prstGeom prst="rect">
            <a:avLst/>
          </a:prstGeom>
          <a:ln w="0">
            <a:noFill/>
          </a:ln>
        </p:spPr>
      </p:pic>
      <p:sp>
        <p:nvSpPr>
          <p:cNvPr id="44" name="Textfeld 4"/>
          <p:cNvSpPr/>
          <p:nvPr/>
        </p:nvSpPr>
        <p:spPr>
          <a:xfrm>
            <a:off x="0" y="61657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Copyright by QualiRom  </a:t>
            </a:r>
            <a:r>
              <a:rPr b="0" lang="de-A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Rómske remeslá a povolania </a:t>
            </a: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a1_east-slovak_secondary_sk_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2:12:53Z</dcterms:created>
  <dc:creator>Gymnázium</dc:creator>
  <dc:description/>
  <dc:language>en-US</dc:language>
  <cp:lastModifiedBy>Administrator</cp:lastModifiedBy>
  <dcterms:modified xsi:type="dcterms:W3CDTF">2013-02-26T10:45:24Z</dcterms:modified>
  <cp:revision>4</cp:revision>
  <dc:subject/>
  <dc:title>Snímka 1</dc:title>
</cp:coreProperties>
</file>