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chimes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F65-61A4-48DF-BB49-4B80FBBB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018-EBFF-43EC-9028-EADD15B2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DA5-1690-43DD-BF65-BCDE7BBB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A5E-1E09-4967-92F1-D662C7B8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D4E-3EB1-42F8-A163-A945416B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28C-30CC-4CED-AEC8-916D0527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401-D2D1-4232-85AF-3FFCC1C4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237-B49A-4B97-BD00-4230B77D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F7C-7A2C-4602-A241-95993030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63B-B9AE-471F-B51C-6D41728D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7AD-9F34-4E8C-A350-3645D62B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3DC-9899-4F2C-853C-E206087B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4325-BFAD-4312-8EBE-9CC348BB3021}" type="slidenum">
              <a:rPr b="0" lang="sk-SK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Calibri"/>
              </a:rPr>
              <a:t>Akana tumenge sikhavav manuša so kerel andri sikhaďi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Zástupný symbol obsahu 3" descr=""/>
          <p:cNvPicPr/>
          <p:nvPr/>
        </p:nvPicPr>
        <p:blipFill>
          <a:blip r:embed="rId1"/>
          <a:stretch/>
        </p:blipFill>
        <p:spPr>
          <a:xfrm>
            <a:off x="-6480" y="920880"/>
            <a:ext cx="2749680" cy="253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7219800" y="1428840"/>
            <a:ext cx="1924200" cy="215244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8" descr=""/>
          <p:cNvPicPr/>
          <p:nvPr/>
        </p:nvPicPr>
        <p:blipFill>
          <a:blip r:embed="rId3"/>
          <a:srcRect l="0" t="0" r="0" b="6870"/>
          <a:stretch/>
        </p:blipFill>
        <p:spPr>
          <a:xfrm>
            <a:off x="428760" y="5251320"/>
            <a:ext cx="1525320" cy="1606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4786200" y="4500720"/>
            <a:ext cx="2114640" cy="2162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5"/>
          <a:stretch/>
        </p:blipFill>
        <p:spPr>
          <a:xfrm>
            <a:off x="3071880" y="5429160"/>
            <a:ext cx="1057320" cy="990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6"/>
          <a:stretch/>
        </p:blipFill>
        <p:spPr>
          <a:xfrm>
            <a:off x="6924600" y="3714840"/>
            <a:ext cx="221940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Oválna bublina 13"/>
          <p:cNvSpPr/>
          <p:nvPr/>
        </p:nvSpPr>
        <p:spPr>
          <a:xfrm>
            <a:off x="2571840" y="1357200"/>
            <a:ext cx="2500200" cy="1857600"/>
          </a:xfrm>
          <a:prstGeom prst="wedgeEllipseCallout">
            <a:avLst>
              <a:gd name="adj1" fmla="val -63407"/>
              <a:gd name="adj2" fmla="val 2981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Mire Jekhetane sikhľuv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álna bublina 14"/>
          <p:cNvSpPr/>
          <p:nvPr/>
        </p:nvSpPr>
        <p:spPr>
          <a:xfrm>
            <a:off x="4857840" y="1285920"/>
            <a:ext cx="2500200" cy="1857240"/>
          </a:xfrm>
          <a:prstGeom prst="wedgeEllipseCallout">
            <a:avLst>
              <a:gd name="adj1" fmla="val 39754"/>
              <a:gd name="adj2" fmla="val 54416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O raj direkto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Oválna bublina 16"/>
          <p:cNvSpPr/>
          <p:nvPr/>
        </p:nvSpPr>
        <p:spPr>
          <a:xfrm rot="21008400">
            <a:off x="4712760" y="2557080"/>
            <a:ext cx="2500560" cy="1857240"/>
          </a:xfrm>
          <a:prstGeom prst="wedgeEllipseCallout">
            <a:avLst>
              <a:gd name="adj1" fmla="val 37027"/>
              <a:gd name="adj2" fmla="val 82337"/>
            </a:avLst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E raňi sikhľarď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válna bublina 17"/>
          <p:cNvSpPr/>
          <p:nvPr/>
        </p:nvSpPr>
        <p:spPr>
          <a:xfrm>
            <a:off x="6643800" y="5000760"/>
            <a:ext cx="2500200" cy="1857240"/>
          </a:xfrm>
          <a:prstGeom prst="wedgeEllipseCallout">
            <a:avLst>
              <a:gd name="adj1" fmla="val -76509"/>
              <a:gd name="adj2" fmla="val 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O raj </a:t>
            </a: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Sikhaďiskero lačardo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válna bublina 19"/>
          <p:cNvSpPr/>
          <p:nvPr/>
        </p:nvSpPr>
        <p:spPr>
          <a:xfrm>
            <a:off x="2143080" y="3286080"/>
            <a:ext cx="2500200" cy="1857600"/>
          </a:xfrm>
          <a:prstGeom prst="wedgeEllipseCallout">
            <a:avLst>
              <a:gd name="adj1" fmla="val -92"/>
              <a:gd name="adj2" fmla="val 64703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E raňi</a:t>
            </a: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 Tavebnaskeri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válna bublina 20"/>
          <p:cNvSpPr/>
          <p:nvPr/>
        </p:nvSpPr>
        <p:spPr>
          <a:xfrm>
            <a:off x="-214200" y="3429000"/>
            <a:ext cx="2500200" cy="1857240"/>
          </a:xfrm>
          <a:prstGeom prst="wedgeEllipseCallout">
            <a:avLst>
              <a:gd name="adj1" fmla="val -2819"/>
              <a:gd name="adj2" fmla="val 55152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E raňi Źužarň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2051640" y="97920"/>
            <a:ext cx="504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V </a:t>
            </a: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š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kole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sk-SK" sz="1100" spc="-1" strike="noStrike">
                <a:solidFill>
                  <a:srgbClr val="ffffff"/>
                </a:solidFill>
                <a:latin typeface="Arial"/>
                <a:ea typeface="Calibri"/>
              </a:rPr>
              <a:t>a1_east-slovak_secondary_sk_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7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20:07:56Z</dcterms:created>
  <dc:creator>Gymnázium</dc:creator>
  <dc:description/>
  <dc:language>en-US</dc:language>
  <cp:lastModifiedBy>Administrator</cp:lastModifiedBy>
  <dcterms:modified xsi:type="dcterms:W3CDTF">2013-02-25T14:23:39Z</dcterms:modified>
  <cp:revision>4</cp:revision>
  <dc:subject/>
  <dc:title>Akana tumenge sikhavav manuša so kerel andri sikhaďi</dc:title>
</cp:coreProperties>
</file>