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033-0077-48E7-91DB-C2E3318C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8CD-2EEE-4EE6-AF7F-54F8464D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3B1-1859-4AD3-96B7-C168B769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0B7-8B64-40D6-BB1A-30ABD3E0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345-615F-48C0-AFB5-D5A1A93F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299-73E1-4D10-ACB0-EFB2D84F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029-045B-4CA4-8A51-D80A30B6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DEA0-F21D-41E2-A327-1CB838E6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C1DE-6F59-408B-A148-43A80B34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D12-7932-44C6-822E-2976BA79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D35A-9F9B-4A5C-B3C0-69C08CF3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6F0-099A-461C-A991-658915B3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86F5-0ECF-4D09-9CB5-69CDF2C1439C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Bazutňi artikaňi sikhaď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898989"/>
                </a:solidFill>
                <a:latin typeface="Arial Black"/>
              </a:rPr>
              <a:t>E klas u so pes odoj sikhľ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63468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ľuby a umeleck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ujmov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činnosť   a1_east-slovak_secondary_sk_1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147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E klasa pro lavu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Sikhľol pes odo te bašavel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pro lavuta, pre gitara,  pro cimbalis, pre harmonika,pro bubni , pro saksofonos, pro kib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Obrázok 3" descr=""/>
          <p:cNvPicPr/>
          <p:nvPr/>
        </p:nvPicPr>
        <p:blipFill>
          <a:blip r:embed="rId1"/>
          <a:stretch/>
        </p:blipFill>
        <p:spPr>
          <a:xfrm>
            <a:off x="2428920" y="3214800"/>
            <a:ext cx="4000320" cy="31716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0" y="6419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ľuby a umeleck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ujmov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činnosť   a1_east-slovak_secondary_sk_1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E klasa pro čitrarďipen,</a:t>
            </a:r>
            <a:br>
              <a:rPr sz="4400"/>
            </a:b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odoj pes sikhľol te čitrar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428840" y="3857760"/>
            <a:ext cx="2219400" cy="20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714920" y="3571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0" y="62056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ľuby a umeleck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ujmov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činnosť   a1_east-slovak_secondary_sk_1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68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E klasa pro kheliben,</a:t>
            </a:r>
            <a:br>
              <a:rPr sz="4400"/>
            </a:b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odoj pes sikhľol te khel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00040" y="3429000"/>
            <a:ext cx="4540320" cy="306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5715000" y="3643200"/>
            <a:ext cx="2276640" cy="23767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0" y="65944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ľuby a umeleck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ujmov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činnosť   a1_east-slovak_secondary_sk_1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Klasa pro giľavipen,</a:t>
            </a:r>
            <a:br>
              <a:rPr sz="4400"/>
            </a:b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odoj pes sikhľol te giľave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071880" y="3929040"/>
            <a:ext cx="2590560" cy="1762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0" y="6208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ľuby a umeleck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ujmov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činnosť   a1_east-slovak_secondary_sk_1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22:43:13Z</dcterms:created>
  <dc:creator>Gymnázium</dc:creator>
  <dc:description/>
  <dc:language>en-US</dc:language>
  <cp:lastModifiedBy>Administrator</cp:lastModifiedBy>
  <dcterms:modified xsi:type="dcterms:W3CDTF">2013-02-26T15:03:22Z</dcterms:modified>
  <cp:revision>3</cp:revision>
  <dc:subject/>
  <dc:title>Bazutňi artikaňi sikhaďi</dc:title>
</cp:coreProperties>
</file>