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1F9-F2DE-4EC4-9994-14BAC07E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4A5-F39D-42C0-A2E8-633579D2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15E-9E9B-46B6-9532-10B553E6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FF8-474F-434E-921A-17306FE4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92E-D57F-49EA-916D-709AC31D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E04-23C6-4BCC-9117-2F92A931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EB6-686C-43D5-89B6-1FD57E1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474-DE49-4EB9-ACC9-234DD8F8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D18-2D7B-49B1-99EE-F516990B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CD0-6FB3-48B9-ACEC-3B53EF7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FA2-ED01-4FEF-9F81-A3B1D68D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FA7-ED4F-4F7D-A39E-2832A3C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6838-25CC-451B-8B07-525DA8E7124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Nadpis 1" descr=""/>
          <p:cNvPicPr/>
          <p:nvPr/>
        </p:nvPicPr>
        <p:blipFill>
          <a:blip r:embed="rId1"/>
          <a:stretch/>
        </p:blipFill>
        <p:spPr>
          <a:xfrm>
            <a:off x="378000" y="1395360"/>
            <a:ext cx="8265960" cy="4560840"/>
          </a:xfrm>
          <a:prstGeom prst="rect">
            <a:avLst/>
          </a:prstGeom>
          <a:ln w="0">
            <a:noFill/>
          </a:ln>
        </p:spPr>
      </p:pic>
      <p:sp>
        <p:nvSpPr>
          <p:cNvPr id="43" name="Textfeld 4"/>
          <p:cNvSpPr/>
          <p:nvPr/>
        </p:nvSpPr>
        <p:spPr>
          <a:xfrm flipV="1" rot="10800000">
            <a:off x="250560" y="6046560"/>
            <a:ext cx="88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Copyright by QualiRom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Ja a moja rodina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a1_east-slovak_secondary_sk_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http://i.sme.sk/cdata/7/53/5346357/gal.jpg"/>
          <p:cNvPicPr/>
          <p:nvPr/>
        </p:nvPicPr>
        <p:blipFill>
          <a:blip r:embed="rId1"/>
          <a:stretch/>
        </p:blipFill>
        <p:spPr>
          <a:xfrm>
            <a:off x="7010280" y="-133200"/>
            <a:ext cx="2335320" cy="3876480"/>
          </a:xfrm>
          <a:prstGeom prst="rect">
            <a:avLst/>
          </a:prstGeom>
          <a:ln w="0">
            <a:noFill/>
          </a:ln>
        </p:spPr>
      </p:pic>
      <p:pic>
        <p:nvPicPr>
          <p:cNvPr id="46" name="Obrázok 4" descr=""/>
          <p:cNvPicPr/>
          <p:nvPr/>
        </p:nvPicPr>
        <p:blipFill>
          <a:blip r:embed="rId2"/>
          <a:stretch/>
        </p:blipFill>
        <p:spPr>
          <a:xfrm>
            <a:off x="66600" y="-146160"/>
            <a:ext cx="2163960" cy="322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4724280" y="-60480"/>
            <a:ext cx="2724120" cy="275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2212920" y="-6480"/>
            <a:ext cx="2627280" cy="238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_MAC2520"/>
          <p:cNvPicPr/>
          <p:nvPr/>
        </p:nvPicPr>
        <p:blipFill>
          <a:blip r:embed="rId5"/>
          <a:stretch/>
        </p:blipFill>
        <p:spPr>
          <a:xfrm>
            <a:off x="2938320" y="2865600"/>
            <a:ext cx="3218040" cy="414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6"/>
          <a:stretch/>
        </p:blipFill>
        <p:spPr>
          <a:xfrm>
            <a:off x="-347760" y="2438280"/>
            <a:ext cx="3206880" cy="4780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7"/>
          <a:stretch/>
        </p:blipFill>
        <p:spPr>
          <a:xfrm>
            <a:off x="6572160" y="3638520"/>
            <a:ext cx="2290680" cy="2865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244680"/>
            <a:ext cx="889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eck 11"/>
          <p:cNvSpPr/>
          <p:nvPr/>
        </p:nvSpPr>
        <p:spPr>
          <a:xfrm flipV="1" rot="10800000">
            <a:off x="6012000" y="6379200"/>
            <a:ext cx="30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 Ja a moja rodina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a1_east-slovak_secondary_sk_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5:41:42Z</dcterms:created>
  <dc:creator>Gymnázium</dc:creator>
  <dc:description/>
  <dc:language>en-US</dc:language>
  <cp:lastModifiedBy>Administrator</cp:lastModifiedBy>
  <dcterms:modified xsi:type="dcterms:W3CDTF">2013-02-26T09:42:49Z</dcterms:modified>
  <cp:revision>5</cp:revision>
  <dc:subject/>
  <dc:title>Snímka 1</dc:title>
</cp:coreProperties>
</file>