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3D2F-04BF-4826-B32D-FADAEB019A4C}" type="slidenum">
              <a:rPr b="0" lang="sk-S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čísla snímky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F8B2-59EE-41F1-844E-A766C1A51145}" type="slidenum">
              <a:rPr b="0" lang="sk-S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6B6-46C4-4B88-8316-68D05007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B68-9883-458C-A49E-72BE34C4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2C4-B3CE-47B7-869B-A33FBB24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E521-C278-4943-880C-C860C33B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6D2-CDCF-4328-83EA-EB0B1CB6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E731-5D3D-45E0-B78A-34FC55A1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95A-E89C-440D-9EC7-C9173B21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A48B-990F-4C48-92B8-930708A0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772-30E3-4932-A896-ACC4A684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0E85-8095-4564-98EE-BC02F16B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605-C07D-4FB9-BB81-067888F9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02B-3A4B-4FA8-A262-FE7D7BAA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2081-744D-4269-849D-745D4FA5428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ok 4" descr=""/>
          <p:cNvPicPr/>
          <p:nvPr/>
        </p:nvPicPr>
        <p:blipFill>
          <a:blip r:embed="rId1"/>
          <a:stretch/>
        </p:blipFill>
        <p:spPr>
          <a:xfrm>
            <a:off x="6357960" y="357120"/>
            <a:ext cx="1422360" cy="1295640"/>
          </a:xfrm>
          <a:prstGeom prst="rect">
            <a:avLst/>
          </a:prstGeom>
          <a:ln w="0">
            <a:noFill/>
          </a:ln>
        </p:spPr>
      </p:pic>
      <p:pic>
        <p:nvPicPr>
          <p:cNvPr id="49" name="Obrázok 7" descr=""/>
          <p:cNvPicPr/>
          <p:nvPr/>
        </p:nvPicPr>
        <p:blipFill>
          <a:blip r:embed="rId2"/>
          <a:stretch/>
        </p:blipFill>
        <p:spPr>
          <a:xfrm>
            <a:off x="6929280" y="4857840"/>
            <a:ext cx="1686240" cy="1257120"/>
          </a:xfrm>
          <a:prstGeom prst="rect">
            <a:avLst/>
          </a:prstGeom>
          <a:ln w="0">
            <a:noFill/>
          </a:ln>
        </p:spPr>
      </p:pic>
      <p:pic>
        <p:nvPicPr>
          <p:cNvPr id="50" name="Obrázok 10" descr=""/>
          <p:cNvPicPr/>
          <p:nvPr/>
        </p:nvPicPr>
        <p:blipFill>
          <a:blip r:embed="rId3"/>
          <a:stretch/>
        </p:blipFill>
        <p:spPr>
          <a:xfrm>
            <a:off x="4143240" y="214200"/>
            <a:ext cx="1360800" cy="1725840"/>
          </a:xfrm>
          <a:prstGeom prst="rect">
            <a:avLst/>
          </a:prstGeom>
          <a:ln w="0">
            <a:noFill/>
          </a:ln>
        </p:spPr>
      </p:pic>
      <p:pic>
        <p:nvPicPr>
          <p:cNvPr id="51" name="Obrázok 7" descr=""/>
          <p:cNvPicPr/>
          <p:nvPr/>
        </p:nvPicPr>
        <p:blipFill>
          <a:blip r:embed="rId4"/>
          <a:stretch/>
        </p:blipFill>
        <p:spPr>
          <a:xfrm>
            <a:off x="4456080" y="3187800"/>
            <a:ext cx="2378160" cy="17445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2279520" y="243000"/>
            <a:ext cx="4584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7"/>
          <p:cNvSpPr/>
          <p:nvPr/>
        </p:nvSpPr>
        <p:spPr>
          <a:xfrm>
            <a:off x="2077920" y="197280"/>
            <a:ext cx="4987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rehoľno pheň...............................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8"/>
          <p:cNvSpPr/>
          <p:nvPr/>
        </p:nvSpPr>
        <p:spPr>
          <a:xfrm>
            <a:off x="20160" y="511920"/>
            <a:ext cx="237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ffffff"/>
                </a:solidFill>
                <a:latin typeface="Calibri"/>
                <a:ea typeface="Calibri"/>
              </a:rPr>
              <a:t>Pro lavuta bašavel ona ..........lavutari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ok 1" descr=""/>
          <p:cNvPicPr/>
          <p:nvPr/>
        </p:nvPicPr>
        <p:blipFill>
          <a:blip r:embed="rId5"/>
          <a:stretch/>
        </p:blipFill>
        <p:spPr>
          <a:xfrm>
            <a:off x="7215120" y="2143080"/>
            <a:ext cx="1187640" cy="1798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8"/>
          <p:cNvSpPr/>
          <p:nvPr/>
        </p:nvSpPr>
        <p:spPr>
          <a:xfrm>
            <a:off x="5400" y="7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Na tabu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9"/>
          <p:cNvSpPr/>
          <p:nvPr/>
        </p:nvSpPr>
        <p:spPr>
          <a:xfrm>
            <a:off x="0" y="45936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  <a:ea typeface="Calibri"/>
              </a:rPr>
              <a:t>Pro lavuta bašavel o lavut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bdĺžnik 42"/>
          <p:cNvSpPr/>
          <p:nvPr/>
        </p:nvSpPr>
        <p:spPr>
          <a:xfrm>
            <a:off x="649080" y="235728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O košara khuvel   o khuvalo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ĺžnik 43"/>
          <p:cNvSpPr/>
          <p:nvPr/>
        </p:nvSpPr>
        <p:spPr>
          <a:xfrm>
            <a:off x="931320" y="357192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Te  labarel cehli. -labar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ĺžnik 44"/>
          <p:cNvSpPr/>
          <p:nvPr/>
        </p:nvSpPr>
        <p:spPr>
          <a:xfrm>
            <a:off x="571680" y="5286240"/>
            <a:ext cx="21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O hangoro kherel o charť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ĺžnik 45"/>
          <p:cNvSpPr/>
          <p:nvPr/>
        </p:nvSpPr>
        <p:spPr>
          <a:xfrm>
            <a:off x="3011400" y="578628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Rehoľno pheň kerel devlikaňi buť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Rovná spojovacia šípka 47"/>
          <p:cNvCxnSpPr/>
          <p:nvPr/>
        </p:nvCxnSpPr>
        <p:spPr>
          <a:xfrm>
            <a:off x="1785600" y="785520"/>
            <a:ext cx="5429880" cy="207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Rovná spojovacia šípka 49"/>
          <p:cNvCxnSpPr/>
          <p:nvPr/>
        </p:nvCxnSpPr>
        <p:spPr>
          <a:xfrm flipV="1">
            <a:off x="3499920" y="1713960"/>
            <a:ext cx="3072600" cy="92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Rovná spojovacia šípka 51"/>
          <p:cNvCxnSpPr/>
          <p:nvPr/>
        </p:nvCxnSpPr>
        <p:spPr>
          <a:xfrm>
            <a:off x="3142800" y="3928680"/>
            <a:ext cx="3786840" cy="178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Rovná spojovacia šípka 53"/>
          <p:cNvCxnSpPr/>
          <p:nvPr/>
        </p:nvCxnSpPr>
        <p:spPr>
          <a:xfrm flipV="1">
            <a:off x="2499840" y="4642560"/>
            <a:ext cx="2001240" cy="1001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Rovná spojovacia šípka 57"/>
          <p:cNvCxnSpPr/>
          <p:nvPr/>
        </p:nvCxnSpPr>
        <p:spPr>
          <a:xfrm flipV="1">
            <a:off x="4000680" y="2428560"/>
            <a:ext cx="357840" cy="335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Rectangle 23"/>
          <p:cNvSpPr/>
          <p:nvPr/>
        </p:nvSpPr>
        <p:spPr>
          <a:xfrm flipV="1" rot="10800000">
            <a:off x="2484000" y="6321240"/>
            <a:ext cx="665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Rómske remeslá a povolania 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a1_east-slovak_secondary_sk_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feld 23"/>
          <p:cNvSpPr/>
          <p:nvPr/>
        </p:nvSpPr>
        <p:spPr>
          <a:xfrm>
            <a:off x="5796000" y="260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6:28:15Z</dcterms:created>
  <dc:creator>Gymnázium</dc:creator>
  <dc:description/>
  <dc:language>en-US</dc:language>
  <cp:lastModifiedBy>Administrator</cp:lastModifiedBy>
  <dcterms:modified xsi:type="dcterms:W3CDTF">2013-02-26T10:44:05Z</dcterms:modified>
  <cp:revision>7</cp:revision>
  <dc:subject/>
  <dc:title>Snímka 1</dc:title>
</cp:coreProperties>
</file>