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F24-C377-40EC-81DF-1CCE0803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900-36B9-4658-B4BC-07C47D9C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367-A692-4A09-896E-84732C20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F11-50C1-4E3B-BA6D-B17092FA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8292-09DA-4560-A102-5AFF9BEC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4377-A6F3-4BA1-BE34-EA8BA110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497-BAE3-4BB4-8920-F71FD0F1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EADB-CA62-4849-A85B-D1C1606E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A717-B179-4B04-A61F-29451EEC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959C-9FDD-4119-8C0C-D0A026ED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4F8D-606D-4D18-88A1-F9A4E724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400-7D66-41C5-9582-01FC180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1F0A-8CB3-4FF0-89CF-28FD905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DA30-DC26-438C-8A11-F8E2965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5D1-4523-4CDA-A5B4-21E44283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76F-74AB-4B4D-ABF7-F26B9C53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521-7D85-4A21-9369-64E734BA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CC50-0063-4459-8B3C-2033DA00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C507-FE4B-4365-AA4C-E096DF1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3238-B06C-4528-8ED0-E3DA1774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D241-07B8-4790-90D9-844F7643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C0A6-88F7-46BD-A92E-9EBDF1D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9D6-3115-40BE-9C61-24052E26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349F-D3F3-41D1-BA7E-8512CC4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642C-2BFA-480E-B804-623168A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0BAF-B9A9-4D93-B44B-A9956EC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E51A-0FFF-4AFC-BD3E-E4E83504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7428-EC43-45A7-92C5-DA4B8AB7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7193-44C1-4A99-BE79-2309ACF0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D79A-755A-4BB7-8C42-46856C15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2E1B-3453-403B-BB5B-B1C19830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AA99-C510-4505-A3BC-82C33A3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5E3C-4C5C-4D42-8E90-652D7513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978-A109-4C51-901C-B3E5F731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0326-5D88-4E45-AE1D-C2EF9714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2CB6A-F18E-4532-BC13-5320571F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4496-1708-4C29-8E9A-F0BCC5F8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E5E3-ED29-455A-A885-E0071EBF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EB0F-7020-4B93-AF15-A18C60E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5890-993E-49FF-B4D4-6B007AD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A56F-E294-4996-B419-24DA07E0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C03A-8BB1-4BA5-A3F5-85B4ED16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5F6C-AAD0-4E05-9DC8-69FE1693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AE23-DB30-42BD-8E3E-9013C3DA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BDA-A2A5-4E22-920D-CD2658C9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0F886-E48D-4BE5-9673-30FA8592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5918-26A4-4EA3-A2C3-F0D4648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F7F8-DC00-4D8F-8612-3E860D16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215B-DD0C-4BB1-9663-872CB223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1B08-F3CB-474C-A9EE-AFBDD4DB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6E92-F8D3-427D-95F5-5D19D9B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0488A-B672-4430-BCFE-95637E12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D93A-21F4-478E-981E-7EEF6ED3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2DD3-26DB-4821-9740-64DB90DA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4571-0878-44A9-BC09-1E16ACAB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663-23FB-4733-99E6-A1B73973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30AE7-573F-4221-A38F-26F098EB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03D-587C-4D5F-B7A9-511A1F9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B0B-99EC-45F5-BD06-7D7A1DB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1AE-851D-4BBF-94E2-049EE9D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ĺžni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ĺžni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ĺžni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A069-F274-4D3F-B0AF-FFE0C4293B66}" type="datetime">
              <a:rPr b="0" lang="sk-SK" sz="1000" spc="-1" strike="noStrike">
                <a:solidFill>
                  <a:srgbClr val="a7a399"/>
                </a:solidFill>
                <a:latin typeface="Verdana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97E-2578-488A-9C4A-D324F3B7928E}" type="slidenum">
              <a:rPr b="0" lang="sk-SK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ĺžni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ĺžni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DC3C-442B-4D04-9185-37F20DFED7BF}" type="datetime">
              <a:rPr b="0" lang="sk-SK" sz="1000" spc="-1" strike="noStrike">
                <a:solidFill>
                  <a:srgbClr val="a7a399"/>
                </a:solidFill>
                <a:latin typeface="Verdana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064-F28C-4312-A7E1-E309AFE14281}" type="slidenum">
              <a:rPr b="0" lang="sk-SK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ĺžni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ĺžni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A97B-97D2-466C-9C6D-8BB91E7DE8E9}" type="datetime">
              <a:rPr b="0" lang="sk-SK" sz="1000" spc="-1" strike="noStrike">
                <a:solidFill>
                  <a:srgbClr val="a7a399"/>
                </a:solidFill>
                <a:latin typeface="Verdana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A9D-123A-481B-B9AC-318BA19E0FE4}" type="slidenum">
              <a:rPr b="0" lang="sk-SK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5D24-BE24-4E2B-8D1B-C39009B000BB}" type="datetime">
              <a:rPr b="0" lang="sk-SK" sz="1000" spc="-1" strike="noStrike">
                <a:solidFill>
                  <a:srgbClr val="a7a399"/>
                </a:solidFill>
                <a:latin typeface="Verdana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0DAC-0A34-4EF2-A897-16E8479ADD7E}" type="slidenum">
              <a:rPr b="0" lang="sk-SK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ĺžnik s jedným zaobleným roho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F1A-A614-4CC3-A8C3-07DBFCFB8EF2}" type="datetime">
              <a:rPr b="0" lang="sk-SK" sz="1000" spc="-1" strike="noStrike">
                <a:solidFill>
                  <a:srgbClr val="a7a399"/>
                </a:solidFill>
                <a:latin typeface="Verdana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AF2A-C2C3-4D7D-B4F0-E886AE20470F}" type="slidenum">
              <a:rPr b="0" lang="sk-SK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100" spc="-1" strike="noStrike">
                <a:solidFill>
                  <a:srgbClr val="ff8d3e"/>
                </a:solidFill>
                <a:latin typeface="Verdana"/>
              </a:rPr>
              <a:t>Andri šmikňa kerel o charťaris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Kováč pracuje vo vyh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ußzeilenplatzhalt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100" spc="-1" strike="noStrike">
                <a:solidFill>
                  <a:srgbClr val="ff8d3e"/>
                </a:solidFill>
                <a:latin typeface="Verdana"/>
              </a:rPr>
              <a:t>O košaris khuvel le raňingenca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Košikár pleti s prút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Fußzeilenplatzhalt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100" spc="-1" strike="noStrike">
                <a:solidFill>
                  <a:srgbClr val="ff8d3e"/>
                </a:solidFill>
                <a:latin typeface="Verdana"/>
              </a:rPr>
              <a:t>Le charťaris kampel pre buťi o jag 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Oheň  je potrební pre kováč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Fußzeilenplatzhalt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100" spc="-1" strike="noStrike">
                <a:solidFill>
                  <a:srgbClr val="ff8d3e"/>
                </a:solidFill>
                <a:latin typeface="Verdana"/>
              </a:rPr>
              <a:t>O drabaris  kerel le vastenca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Drotár pracuje s ruka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Fußzeilenplatzhalt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100" spc="-1" strike="noStrike">
                <a:solidFill>
                  <a:srgbClr val="ff8d3e"/>
                </a:solidFill>
                <a:latin typeface="Verdana"/>
              </a:rPr>
              <a:t>Miro papus kerelas romaňi buťi, ehas drotaris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Môj starký robil rómske povolanie, bol drotá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ußzeilenplatzhalt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500" spc="-1" strike="noStrike">
                <a:solidFill>
                  <a:srgbClr val="ff8d3e"/>
                </a:solidFill>
                <a:latin typeface="Verdana"/>
              </a:rPr>
              <a:t>Me kamav te ačhel košari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Ja chcem byť košiká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Fußzeilenplatzhalt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500" spc="-1" strike="noStrike">
                <a:solidFill>
                  <a:srgbClr val="ff8d3e"/>
                </a:solidFill>
                <a:latin typeface="Verdana"/>
              </a:rPr>
              <a:t>Šukar kerenas paľikerav tumenge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429080" y="3786120"/>
            <a:ext cx="1523880" cy="1514520"/>
          </a:xfrm>
          <a:prstGeom prst="rect">
            <a:avLst/>
          </a:prstGeom>
          <a:ln w="0">
            <a:noFill/>
          </a:ln>
        </p:spPr>
      </p:pic>
      <p:sp>
        <p:nvSpPr>
          <p:cNvPr id="241" name="Fußzeilenplatzhalter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a7a399"/>
                </a:solidFill>
                <a:latin typeface="Verdana"/>
              </a:rPr>
              <a:t>Copyright by Qualirom                 Ronske remesla a povolania     a1_east-slovak_secondary_sk_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3:17:24Z</dcterms:created>
  <dc:creator>Gymnázium</dc:creator>
  <dc:description/>
  <dc:language>en-US</dc:language>
  <cp:lastModifiedBy>Administrator</cp:lastModifiedBy>
  <dcterms:modified xsi:type="dcterms:W3CDTF">2013-02-25T14:12:05Z</dcterms:modified>
  <cp:revision>3</cp:revision>
  <dc:subject/>
  <dc:title>Andri šmikňa kerel o charťaris </dc:title>
</cp:coreProperties>
</file>