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855-19FC-48A9-BF22-ED226B95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D05-3F32-4C5A-937B-2131953F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C1B-1019-41BC-BEBE-6CB4DA90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63C-0A5F-4F58-BF72-2454DDA4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372-5DA2-429D-861C-06982361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B95-3966-4F0A-8071-3CD45C53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39E-58E3-4871-B0E4-B234E608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5EB-0829-4504-88F8-5EE13F72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885-C8D5-4B52-B2D7-91EF5CC9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159-70F4-4F80-9EF8-EC3B8A6F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010-FB17-4683-802A-D56ECDB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F3A-9911-4492-A04A-2A7E934D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6AA1-D705-4B17-A399-6D3856DBBB8C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   Moje spolocenstvo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CB99-8496-41A5-BF7F-DFBB686A065A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Nadpis 1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394840" cy="4560840"/>
          </a:xfrm>
          <a:prstGeom prst="rect">
            <a:avLst/>
          </a:prstGeom>
          <a:ln w="0">
            <a:noFill/>
          </a:ln>
        </p:spPr>
      </p:pic>
      <p:sp>
        <p:nvSpPr>
          <p:cNvPr id="43" name="Fußzeilenplatzhalter 4"/>
          <p:cNvSpPr/>
          <p:nvPr/>
        </p:nvSpPr>
        <p:spPr>
          <a:xfrm>
            <a:off x="0" y="6356520"/>
            <a:ext cx="91440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   Moje spolocenstvo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http://i.sme.sk/cdata/7/53/5346357/gal.jpg"/>
          <p:cNvPicPr/>
          <p:nvPr/>
        </p:nvPicPr>
        <p:blipFill>
          <a:blip r:embed="rId1"/>
          <a:stretch/>
        </p:blipFill>
        <p:spPr>
          <a:xfrm>
            <a:off x="7010280" y="-133200"/>
            <a:ext cx="2335320" cy="3876480"/>
          </a:xfrm>
          <a:prstGeom prst="rect">
            <a:avLst/>
          </a:prstGeom>
          <a:ln w="0">
            <a:noFill/>
          </a:ln>
        </p:spPr>
      </p:pic>
      <p:pic>
        <p:nvPicPr>
          <p:cNvPr id="46" name="Obrázok 4" descr=""/>
          <p:cNvPicPr/>
          <p:nvPr/>
        </p:nvPicPr>
        <p:blipFill>
          <a:blip r:embed="rId2"/>
          <a:stretch/>
        </p:blipFill>
        <p:spPr>
          <a:xfrm>
            <a:off x="66600" y="-146160"/>
            <a:ext cx="2163960" cy="3224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4724280" y="-60480"/>
            <a:ext cx="2724120" cy="275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2212920" y="-6480"/>
            <a:ext cx="2627280" cy="238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_MAC2520"/>
          <p:cNvPicPr/>
          <p:nvPr/>
        </p:nvPicPr>
        <p:blipFill>
          <a:blip r:embed="rId5"/>
          <a:stretch/>
        </p:blipFill>
        <p:spPr>
          <a:xfrm>
            <a:off x="3090960" y="3090960"/>
            <a:ext cx="3217680" cy="414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6"/>
          <a:stretch/>
        </p:blipFill>
        <p:spPr>
          <a:xfrm>
            <a:off x="-347760" y="2438280"/>
            <a:ext cx="3206880" cy="4780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7"/>
          <a:stretch/>
        </p:blipFill>
        <p:spPr>
          <a:xfrm>
            <a:off x="6572160" y="3638520"/>
            <a:ext cx="2290680" cy="2865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ußzeilenplatzhalter 10"/>
          <p:cNvSpPr/>
          <p:nvPr/>
        </p:nvSpPr>
        <p:spPr>
          <a:xfrm flipH="1">
            <a:off x="6084720" y="6356520"/>
            <a:ext cx="316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   Moje spolocenstvo       a1_east_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5:41:42Z</dcterms:created>
  <dc:creator>Gymnázium</dc:creator>
  <dc:description/>
  <dc:language>en-US</dc:language>
  <cp:lastModifiedBy>Administrator</cp:lastModifiedBy>
  <dcterms:modified xsi:type="dcterms:W3CDTF">2013-02-26T10:18:56Z</dcterms:modified>
  <cp:revision>4</cp:revision>
  <dc:subject/>
  <dc:title>Snímka 1</dc:title>
</cp:coreProperties>
</file>