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165C3-27D6-42AE-B787-CBD30B982CC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C08A1-1E5C-4361-949C-438434952DE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C308-12FF-45E6-9FD3-3BE79508B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EE39-7B79-493D-B9DD-783CEFB66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BA96-01EF-4297-98B8-143F8DC8D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C5AB-00DC-46E3-89BE-E624F1045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DC89-4757-4131-A557-9AEC2F7B0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AB07-9A35-4901-856C-911E2DAA8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5EC6-1F65-4CF3-99BF-6D1C0B94B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E9D9-605E-4EBD-900B-2DC9B1A98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E74F-DC77-42AC-8914-551CFD6FF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FB61-2789-43F1-AA5B-D23C3EA6F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EFC0-98D2-40F3-BAAD-14958BB1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3083-4E68-4806-B1F4-CE2DB06DE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5B2BC-0BF0-48EC-8BF0-011EB20DC736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Obrázok 1" descr=""/>
          <p:cNvPicPr/>
          <p:nvPr/>
        </p:nvPicPr>
        <p:blipFill>
          <a:blip r:embed="rId1"/>
          <a:stretch/>
        </p:blipFill>
        <p:spPr>
          <a:xfrm>
            <a:off x="214200" y="-142920"/>
            <a:ext cx="8429760" cy="6632640"/>
          </a:xfrm>
          <a:prstGeom prst="rect">
            <a:avLst/>
          </a:prstGeom>
          <a:ln w="0">
            <a:noFill/>
          </a:ln>
        </p:spPr>
      </p:pic>
      <p:cxnSp>
        <p:nvCxnSpPr>
          <p:cNvPr id="49" name="Rovná spojovacia šípka 5"/>
          <p:cNvCxnSpPr/>
          <p:nvPr/>
        </p:nvCxnSpPr>
        <p:spPr>
          <a:xfrm>
            <a:off x="2356200" y="571320"/>
            <a:ext cx="2429640" cy="357228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0" name="Rovná spojovacia šípka 7"/>
          <p:cNvCxnSpPr/>
          <p:nvPr/>
        </p:nvCxnSpPr>
        <p:spPr>
          <a:xfrm>
            <a:off x="2143080" y="1643040"/>
            <a:ext cx="2215440" cy="121536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arrow" w="med"/>
          </a:ln>
        </p:spPr>
      </p:cxnSp>
      <p:cxnSp>
        <p:nvCxnSpPr>
          <p:cNvPr id="51" name="Rovná spojovacia šípka 10"/>
          <p:cNvCxnSpPr/>
          <p:nvPr/>
        </p:nvCxnSpPr>
        <p:spPr>
          <a:xfrm flipV="1">
            <a:off x="2928600" y="1856880"/>
            <a:ext cx="1143720" cy="85824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triangle" w="med"/>
          </a:ln>
        </p:spPr>
      </p:cxnSp>
      <p:cxnSp>
        <p:nvCxnSpPr>
          <p:cNvPr id="52" name="Rovná spojovacia šípka 12"/>
          <p:cNvCxnSpPr/>
          <p:nvPr/>
        </p:nvCxnSpPr>
        <p:spPr>
          <a:xfrm flipV="1">
            <a:off x="1928520" y="4928760"/>
            <a:ext cx="2786760" cy="1286640"/>
          </a:xfrm>
          <a:prstGeom prst="straightConnector1">
            <a:avLst/>
          </a:prstGeom>
          <a:ln w="38160">
            <a:solidFill>
              <a:srgbClr val="984807"/>
            </a:solidFill>
            <a:miter/>
            <a:tailEnd len="med" type="triangle" w="med"/>
          </a:ln>
        </p:spPr>
      </p:cxnSp>
      <p:cxnSp>
        <p:nvCxnSpPr>
          <p:cNvPr id="53" name="Rovná spojovacia šípka 14"/>
          <p:cNvCxnSpPr/>
          <p:nvPr/>
        </p:nvCxnSpPr>
        <p:spPr>
          <a:xfrm flipV="1">
            <a:off x="2570760" y="-360"/>
            <a:ext cx="1857960" cy="392976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triangle" w="med"/>
          </a:ln>
        </p:spPr>
      </p:cxnSp>
      <p:cxnSp>
        <p:nvCxnSpPr>
          <p:cNvPr id="54" name="Rovná spojovacia šípka 16"/>
          <p:cNvCxnSpPr/>
          <p:nvPr/>
        </p:nvCxnSpPr>
        <p:spPr>
          <a:xfrm>
            <a:off x="2286000" y="5143680"/>
            <a:ext cx="2215440" cy="13579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55" name="Rectangle 9"/>
          <p:cNvSpPr/>
          <p:nvPr/>
        </p:nvSpPr>
        <p:spPr>
          <a:xfrm flipV="1" rot="10800000">
            <a:off x="5508720" y="6369480"/>
            <a:ext cx="3635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000000"/>
                </a:solidFill>
                <a:latin typeface="Calibri"/>
                <a:ea typeface="Calibri"/>
              </a:rPr>
              <a:t>Copyright by QualiRom  Rómske remeslá a povolania </a:t>
            </a:r>
            <a:r>
              <a:rPr b="0" lang="sk-SK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k-SK" sz="1100" spc="-1" strike="noStrike">
                <a:solidFill>
                  <a:srgbClr val="000000"/>
                </a:solidFill>
                <a:latin typeface="Calibri"/>
                <a:ea typeface="Calibri"/>
              </a:rPr>
              <a:t>a1_east-slovak_secondary_sk_0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8T21:02:54Z</dcterms:created>
  <dc:creator>Gymnázium</dc:creator>
  <dc:description/>
  <dc:language>en-US</dc:language>
  <cp:lastModifiedBy>Administrator</cp:lastModifiedBy>
  <dcterms:modified xsi:type="dcterms:W3CDTF">2013-02-25T14:16:13Z</dcterms:modified>
  <cp:revision>4</cp:revision>
  <dc:subject/>
  <dc:title>Snímka 1</dc:title>
</cp:coreProperties>
</file>