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1D9-6D4D-4D55-B674-F1B6ACB7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3EA-5CE4-4B3B-8DF6-588B412B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923-53D8-436C-9685-6B572C74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FE8-A14D-448B-B5ED-0F4F48E7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4022-AB1C-4E0E-92F4-1DBB6F5F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A6C2-98DF-4780-B8CF-3EA920E2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8287-5F1F-4230-8369-E31CD7F4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3E2E-FF87-456C-9D02-F2B9C629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7457-562E-491F-954C-6070639C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B470-EF34-46C1-9D69-B6A817AB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B0D5-DB11-40FB-81D5-F0A60681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06F-0C57-462A-A6EE-0DD0CB02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06E9-9672-46FC-A577-349F43AB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6B51-F6CA-4B4E-A857-CF8DFA6D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B758-0913-41C8-827A-071DFCD2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D0F8-8057-4AB8-9AFD-751387B4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690C-2B2A-4DDD-8D36-9801EA60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67FB-F7BF-430A-98EC-ABFACA54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1EAD-0CDF-4689-A810-C34AC7C1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70A14-D160-4F97-8B5F-0A3D6156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6F04E-9995-4AD3-A5C1-8C1517FD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0DFF5-BA1F-47C6-A22A-CCC78A4E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D2F-FAB9-4E36-94E1-2F217252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C013C-5922-450B-973C-82D539D9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F7FC-3938-4F8A-8735-D395B1D5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E15EE-36E2-4F76-90EF-26B2C805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5E0AA-DFE5-437B-A0D6-DFE499C6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02B25-5504-47E1-A582-C68EF2AF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E3EDB-7140-49FA-BF18-E9DE8D5D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2AFF0-B8FD-426D-92B4-FF75F1D7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7E48-6201-484E-97C8-A7E4E93A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7E44F-DA94-4700-A631-9B521D75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A6BAC-A961-4D69-B50C-DC9F7D2A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E2F-D116-4319-803A-5D48227A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91AB2-7021-4B38-990D-7E05097C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D9EC1-E0CE-48DE-88AB-E4E741BF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DBCE2-E165-4A59-8DF7-F3C36427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EA10F-3302-42F4-99D0-5FCFA987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2A9A-A08F-4A31-9C8D-AC579D58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4E793-426C-44A4-A376-FB09EDB1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5E5EA-7527-47EA-8D6A-5A622BCB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2CE48-7919-4827-96B2-B86F1626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1FB46-C987-4AC3-95DC-2CD5B1C1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950C1-EFF7-47FD-8B08-34083FFB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CA1-1089-482E-8FEB-5DF62ACE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2CD93-A8C0-4FB7-946F-78D4FE77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1AA9D-D6CD-48EB-9EA1-FCB12889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BCF4F-C13A-4EF8-B906-5AE36732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8078E-ED9D-4F4B-A985-581EB2E8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0EE09-2BC0-4F2C-9ACA-A09F1AE8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1514D-AE7F-4422-99CD-6237A1B1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08E71-2B8E-48D8-BAAD-33B1E483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5704D-1B6E-461D-8D49-7C33210E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772C2-7D04-4DC3-A06D-6E7261F4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D38DD-9E34-4E66-A0FC-AC4D9CE9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32D-7EC2-496B-AFEE-2769FF85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D2B7C-23D4-4900-B87A-8851FB05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3BC-C6E5-46CF-9954-EFDD0E00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877-121F-494A-8248-8F638CDA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631-A9A0-4F01-A4BC-969EAA8F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ĺž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4487-3898-4CE0-B4AA-4BE6391A6FEC}" type="datetime">
              <a:rPr b="0" lang="sk-SK" sz="1000" spc="-1" strike="noStrike">
                <a:solidFill>
                  <a:srgbClr val="b13f9a"/>
                </a:solidFill>
                <a:latin typeface="Trebuchet MS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3A93-F37F-4779-835F-ECB5A6EA3E6A}" type="slidenum">
              <a:rPr b="0" lang="sk-SK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ĺžnik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Obdĺžnik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ovná spojnica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EBF1-CC23-4A77-9D1C-E6C3350F2600}" type="datetime">
              <a:rPr b="0" lang="sk-SK" sz="1000" spc="-1" strike="noStrike">
                <a:solidFill>
                  <a:srgbClr val="ffffff"/>
                </a:solidFill>
                <a:latin typeface="Trebuchet MS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0CF8-7778-4111-BB2E-AE03071A2219}" type="slidenum">
              <a:rPr b="0" lang="sk-SK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bdĺž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1466-2853-4E6F-9594-A8B575985B9A}" type="datetime">
              <a:rPr b="0" lang="sk-SK" sz="1000" spc="-1" strike="noStrike">
                <a:solidFill>
                  <a:srgbClr val="b13f9a"/>
                </a:solidFill>
                <a:latin typeface="Trebuchet MS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E3BD-2A2A-4BFD-9FF5-249429205362}" type="slidenum">
              <a:rPr b="0" lang="sk-SK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ĺžni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ĺžni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289A-0DD8-4D38-ADA2-17D695D9A028}" type="datetime">
              <a:rPr b="0" lang="sk-SK" sz="1000" spc="-1" strike="noStrike">
                <a:solidFill>
                  <a:srgbClr val="f4e7ed"/>
                </a:solidFill>
                <a:latin typeface="Trebuchet MS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B428-6401-49AF-81B8-64E5E551899F}" type="slidenum">
              <a:rPr b="0" lang="sk-SK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bdĺž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2DDD-D0CB-4D01-B108-9F7D91976D93}" type="datetime">
              <a:rPr b="0" lang="sk-SK" sz="1000" spc="-1" strike="noStrike">
                <a:solidFill>
                  <a:srgbClr val="b13f9a"/>
                </a:solidFill>
                <a:latin typeface="Trebuchet MS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B41E-2E4C-4EE5-98C6-4686F205F468}" type="slidenum">
              <a:rPr b="0" lang="sk-SK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Nadpis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1979640" y="1989000"/>
            <a:ext cx="5432400" cy="3490920"/>
          </a:xfrm>
          <a:prstGeom prst="rect">
            <a:avLst/>
          </a:prstGeom>
          <a:ln w="0">
            <a:noFill/>
          </a:ln>
        </p:spPr>
      </p:pic>
      <p:sp>
        <p:nvSpPr>
          <p:cNvPr id="222" name="Fußzeilenplatzhalter 3"/>
          <p:cNvSpPr/>
          <p:nvPr/>
        </p:nvSpPr>
        <p:spPr>
          <a:xfrm>
            <a:off x="457200" y="6453360"/>
            <a:ext cx="7210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Copyright by QualiRom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 Príroda a zvierata 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a1_east-slovak_secondary_sk_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Nadpis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5508720" y="4292640"/>
            <a:ext cx="2361960" cy="2200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3"/>
          <a:stretch/>
        </p:blipFill>
        <p:spPr>
          <a:xfrm>
            <a:off x="755640" y="1844640"/>
            <a:ext cx="4381560" cy="2876760"/>
          </a:xfrm>
          <a:prstGeom prst="rect">
            <a:avLst/>
          </a:prstGeom>
          <a:ln w="0">
            <a:noFill/>
          </a:ln>
        </p:spPr>
      </p:pic>
      <p:sp>
        <p:nvSpPr>
          <p:cNvPr id="226" name="Fußzeilenplatzhalter 4"/>
          <p:cNvSpPr/>
          <p:nvPr/>
        </p:nvSpPr>
        <p:spPr>
          <a:xfrm>
            <a:off x="457200" y="6524640"/>
            <a:ext cx="69231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Copyright by QualiRom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 Príroda a zvierata 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a1_east-slovak_secondary_sk_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Nadpis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231" name="Fußzeilenplatzhalter 5"/>
          <p:cNvSpPr/>
          <p:nvPr/>
        </p:nvSpPr>
        <p:spPr>
          <a:xfrm>
            <a:off x="457200" y="6453360"/>
            <a:ext cx="7643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Copyright by QualiRom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 Príroda a zvierata 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a1_east-slovak_secondary_sk_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Nadpis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3"/>
          <a:stretch/>
        </p:blipFill>
        <p:spPr>
          <a:xfrm>
            <a:off x="4859280" y="3357720"/>
            <a:ext cx="2716200" cy="1798560"/>
          </a:xfrm>
          <a:prstGeom prst="rect">
            <a:avLst/>
          </a:prstGeom>
          <a:ln w="0">
            <a:noFill/>
          </a:ln>
        </p:spPr>
      </p:pic>
      <p:sp>
        <p:nvSpPr>
          <p:cNvPr id="235" name="Fußzeilenplatzhalter 4"/>
          <p:cNvSpPr/>
          <p:nvPr/>
        </p:nvSpPr>
        <p:spPr>
          <a:xfrm>
            <a:off x="457200" y="6453360"/>
            <a:ext cx="7499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Copyright by QualiRom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 Príroda a zvierata 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a1_east-slovak_secondary_sk_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Nadpis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1908000" y="2060640"/>
            <a:ext cx="4938840" cy="3995640"/>
          </a:xfrm>
          <a:prstGeom prst="rect">
            <a:avLst/>
          </a:prstGeom>
          <a:ln w="0">
            <a:noFill/>
          </a:ln>
        </p:spPr>
      </p:pic>
      <p:sp>
        <p:nvSpPr>
          <p:cNvPr id="238" name="Fußzeilenplatzhalter 3"/>
          <p:cNvSpPr/>
          <p:nvPr/>
        </p:nvSpPr>
        <p:spPr>
          <a:xfrm>
            <a:off x="457200" y="6597720"/>
            <a:ext cx="7283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Copyright by QualiRom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 Príroda a zvierata 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a1_east-slovak_secondary_sk_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Nadpis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2843280" y="2060640"/>
            <a:ext cx="3257640" cy="4068720"/>
          </a:xfrm>
          <a:prstGeom prst="rect">
            <a:avLst/>
          </a:prstGeom>
          <a:ln w="0">
            <a:noFill/>
          </a:ln>
        </p:spPr>
      </p:pic>
      <p:sp>
        <p:nvSpPr>
          <p:cNvPr id="241" name="Fußzeilenplatzhalter 3"/>
          <p:cNvSpPr/>
          <p:nvPr/>
        </p:nvSpPr>
        <p:spPr>
          <a:xfrm>
            <a:off x="457200" y="6453360"/>
            <a:ext cx="69231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Copyright by QualiRom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 Príroda a zvierata 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a1_east-slovak_secondary_sk_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Nadpis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2050920" y="1916280"/>
            <a:ext cx="4951440" cy="3708360"/>
          </a:xfrm>
          <a:prstGeom prst="rect">
            <a:avLst/>
          </a:prstGeom>
          <a:ln w="0">
            <a:noFill/>
          </a:ln>
        </p:spPr>
      </p:pic>
      <p:sp>
        <p:nvSpPr>
          <p:cNvPr id="244" name="Fußzeilenplatzhalter 3"/>
          <p:cNvSpPr/>
          <p:nvPr/>
        </p:nvSpPr>
        <p:spPr>
          <a:xfrm>
            <a:off x="457200" y="6308640"/>
            <a:ext cx="77151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Copyright by QualiRom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 Príroda a zvierata 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a1_east-slovak_secondary_sk_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Nadpis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1332000" y="2349360"/>
            <a:ext cx="6281640" cy="2411640"/>
          </a:xfrm>
          <a:prstGeom prst="rect">
            <a:avLst/>
          </a:prstGeom>
          <a:ln w="0">
            <a:noFill/>
          </a:ln>
        </p:spPr>
      </p:pic>
      <p:sp>
        <p:nvSpPr>
          <p:cNvPr id="247" name="Fußzeilenplatzhalter 3"/>
          <p:cNvSpPr/>
          <p:nvPr/>
        </p:nvSpPr>
        <p:spPr>
          <a:xfrm>
            <a:off x="457200" y="6669000"/>
            <a:ext cx="764388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Copyright by QualiRom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 Príroda a zvierata 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a1_east-slovak_secondary_sk_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6:56:17Z</dcterms:created>
  <dc:creator>Skola</dc:creator>
  <dc:description/>
  <dc:language>en-US</dc:language>
  <cp:lastModifiedBy>Administrator</cp:lastModifiedBy>
  <dcterms:modified xsi:type="dcterms:W3CDTF">2013-02-26T12:34:02Z</dcterms:modified>
  <cp:revision>3</cp:revision>
  <dc:subject/>
  <dc:title>O frukti</dc:title>
</cp:coreProperties>
</file>