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31E-CFE2-4BBD-9AE5-B415D26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247-3CE9-4B2D-AD36-FC552AD6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5DD-CF60-48AB-8770-EAF7A467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896-C19C-4DE2-97A6-22425EA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2DC-989D-4764-9C13-5115D47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63A-558F-4651-96C1-5E16362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EDF-A2B1-42C3-AA1A-F1837262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916-2780-4B0E-B671-FDCEF00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E37-CD4C-484C-A512-7ADEC5C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B5B-60E3-4DE5-A869-16124BC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B1E-C876-4232-9189-1A8A1E9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611-4DB3-419B-887C-07E61C41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65EE-3909-4A52-9519-160499C61067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1C4-27FF-4F99-BB19-9C809976A33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kana tumenge sikhavav manuša so kerel andri sikhaď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Zástupný symbol obsahu 3" descr=""/>
          <p:cNvPicPr/>
          <p:nvPr/>
        </p:nvPicPr>
        <p:blipFill>
          <a:blip r:embed="rId1"/>
          <a:stretch/>
        </p:blipFill>
        <p:spPr>
          <a:xfrm>
            <a:off x="-6480" y="920880"/>
            <a:ext cx="2749680" cy="253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219800" y="1428840"/>
            <a:ext cx="192420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8" descr=""/>
          <p:cNvPicPr/>
          <p:nvPr/>
        </p:nvPicPr>
        <p:blipFill>
          <a:blip r:embed="rId3"/>
          <a:srcRect l="0" t="0" r="0" b="6870"/>
          <a:stretch/>
        </p:blipFill>
        <p:spPr>
          <a:xfrm>
            <a:off x="428760" y="5251320"/>
            <a:ext cx="152532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4786200" y="450072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3071880" y="5429160"/>
            <a:ext cx="1057320" cy="99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6924600" y="371484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Oválna bublina 13"/>
          <p:cNvSpPr/>
          <p:nvPr/>
        </p:nvSpPr>
        <p:spPr>
          <a:xfrm>
            <a:off x="2571840" y="1357200"/>
            <a:ext cx="2500200" cy="1857600"/>
          </a:xfrm>
          <a:prstGeom prst="wedgeEllipseCallout">
            <a:avLst>
              <a:gd name="adj1" fmla="val -63407"/>
              <a:gd name="adj2" fmla="val 2981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álna bublina 14"/>
          <p:cNvSpPr/>
          <p:nvPr/>
        </p:nvSpPr>
        <p:spPr>
          <a:xfrm>
            <a:off x="4857840" y="1285920"/>
            <a:ext cx="2500200" cy="1857240"/>
          </a:xfrm>
          <a:prstGeom prst="wedgeEllipseCallout">
            <a:avLst>
              <a:gd name="adj1" fmla="val 39754"/>
              <a:gd name="adj2" fmla="val 5441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álna bublina 16"/>
          <p:cNvSpPr/>
          <p:nvPr/>
        </p:nvSpPr>
        <p:spPr>
          <a:xfrm rot="153600">
            <a:off x="4713120" y="2557080"/>
            <a:ext cx="2500560" cy="1857240"/>
          </a:xfrm>
          <a:prstGeom prst="wedgeEllipseCallout">
            <a:avLst>
              <a:gd name="adj1" fmla="val 57708"/>
              <a:gd name="adj2" fmla="val 68601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álna bublina 17"/>
          <p:cNvSpPr/>
          <p:nvPr/>
        </p:nvSpPr>
        <p:spPr>
          <a:xfrm>
            <a:off x="6643800" y="5000760"/>
            <a:ext cx="2500200" cy="1857240"/>
          </a:xfrm>
          <a:prstGeom prst="wedgeEllipseCallout">
            <a:avLst>
              <a:gd name="adj1" fmla="val -76509"/>
              <a:gd name="adj2" fmla="val 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álna bublina 19"/>
          <p:cNvSpPr/>
          <p:nvPr/>
        </p:nvSpPr>
        <p:spPr>
          <a:xfrm>
            <a:off x="2143080" y="3286080"/>
            <a:ext cx="2500200" cy="1857600"/>
          </a:xfrm>
          <a:prstGeom prst="wedgeEllipseCallout">
            <a:avLst>
              <a:gd name="adj1" fmla="val -92"/>
              <a:gd name="adj2" fmla="val 64703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álna bublina 20"/>
          <p:cNvSpPr/>
          <p:nvPr/>
        </p:nvSpPr>
        <p:spPr>
          <a:xfrm>
            <a:off x="-214200" y="3429000"/>
            <a:ext cx="2500200" cy="1857240"/>
          </a:xfrm>
          <a:prstGeom prst="wedgeEllipseCallout">
            <a:avLst>
              <a:gd name="adj1" fmla="val -2819"/>
              <a:gd name="adj2" fmla="val 5515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ußzeilenplatzhalter 15"/>
          <p:cNvSpPr/>
          <p:nvPr/>
        </p:nvSpPr>
        <p:spPr>
          <a:xfrm>
            <a:off x="1835280" y="6597720"/>
            <a:ext cx="5257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  <a:ea typeface="Calibri"/>
              </a:rPr>
              <a:t>Copyright by QualiRom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  <a:ea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  <a:ea typeface="Calibri"/>
              </a:rPr>
              <a:t>V škole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  <a:ea typeface="Calibri"/>
              </a:rPr>
              <a:t>	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  <a:ea typeface="Calibri"/>
              </a:rPr>
              <a:t>a1_east-slovak_secondary_sk_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0:17:55Z</dcterms:created>
  <dc:creator>Gymnázium</dc:creator>
  <dc:description/>
  <dc:language>en-US</dc:language>
  <cp:lastModifiedBy>Administrator</cp:lastModifiedBy>
  <dcterms:modified xsi:type="dcterms:W3CDTF">2013-02-26T11:06:01Z</dcterms:modified>
  <cp:revision>3</cp:revision>
  <dc:subject/>
  <dc:title>Akana tumenge sikhavav manuša so kerel andri sikhaďi</dc:title>
</cp:coreProperties>
</file>