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874-DC62-48E8-9A93-FAD62EA7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FBA-2C72-4137-AC41-57DA99C3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4C4-EE7A-45EE-8FE5-94B86AAB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799-D5B8-4C2E-A735-F0FAD74C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8B7-7D48-49F8-95F2-99E8E27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92F-6D2D-4137-B69F-D400DD8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B15-30D9-43B4-BD64-2999C4D3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A51-4B90-44BF-8CD3-B8FABFE0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47D-E25A-40A3-B072-D075833F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0EC-6128-4396-8398-CA9C014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8E0-CAC6-4FA0-BE3C-1B421952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33E-F3E1-493B-A221-529CED6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1AC-1599-4D47-929B-BAB733642CB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dĺžnik 1" descr=""/>
          <p:cNvPicPr/>
          <p:nvPr/>
        </p:nvPicPr>
        <p:blipFill>
          <a:blip r:embed="rId1"/>
          <a:stretch/>
        </p:blipFill>
        <p:spPr>
          <a:xfrm>
            <a:off x="933480" y="109440"/>
            <a:ext cx="7985160" cy="8931240"/>
          </a:xfrm>
          <a:prstGeom prst="rect">
            <a:avLst/>
          </a:prstGeom>
          <a:ln w="0">
            <a:noFill/>
          </a:ln>
        </p:spPr>
      </p:pic>
      <p:sp>
        <p:nvSpPr>
          <p:cNvPr id="42" name="Rechteck 2"/>
          <p:cNvSpPr/>
          <p:nvPr/>
        </p:nvSpPr>
        <p:spPr>
          <a:xfrm>
            <a:off x="2556000" y="6308640"/>
            <a:ext cx="444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Moje spoločenstvo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Zástupný symbol obsahu 1"/>
          <p:cNvSpPr/>
          <p:nvPr/>
        </p:nvSpPr>
        <p:spPr>
          <a:xfrm>
            <a:off x="214200" y="142920"/>
            <a:ext cx="8643960" cy="6215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58ed5"/>
                </a:solidFill>
                <a:latin typeface="Calibri"/>
              </a:rPr>
              <a:t>          </a:t>
            </a: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slovensky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rómsky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k-SK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Môj, Moja, Moje                    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Miro – Mro, Miri - Mri, Mire.- M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k-SK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Tvoj, Tvoja, Tvoje                  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Tiro – Tro, Tiri - Tri, Tiro - 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sk-SK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Jeho</a:t>
            </a:r>
            <a:r>
              <a:rPr b="1" lang="sk-SK" sz="2400" spc="-1" strike="noStrike">
                <a:solidFill>
                  <a:srgbClr val="8eb4e3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 Leskero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Jej</a:t>
            </a: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Lak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7375e"/>
                </a:solidFill>
                <a:latin typeface="Calibri"/>
              </a:rPr>
              <a:t>slovensky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róm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0253f"/>
                </a:solidFill>
                <a:latin typeface="Calibri"/>
              </a:rPr>
              <a:t>Náš, Naša, Naše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Amaro, Amari, A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0253f"/>
                </a:solidFill>
                <a:latin typeface="Calibri"/>
              </a:rPr>
              <a:t>Váš, Vaša, Vaše                        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Tumáro, Tumari, Tu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0253f"/>
                </a:solidFill>
                <a:latin typeface="Calibri"/>
              </a:rPr>
              <a:t>Ich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400" spc="-1" strike="noStrike">
                <a:solidFill>
                  <a:srgbClr val="e46c0a"/>
                </a:solidFill>
                <a:latin typeface="Calibri"/>
              </a:rPr>
              <a:t>           Leng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eck 2"/>
          <p:cNvSpPr/>
          <p:nvPr/>
        </p:nvSpPr>
        <p:spPr>
          <a:xfrm flipV="1" rot="10800000">
            <a:off x="1547280" y="5949000"/>
            <a:ext cx="446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Moje spoločenstvo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09:27Z</dcterms:created>
  <dc:creator>Gymnázium</dc:creator>
  <dc:description/>
  <dc:language>en-US</dc:language>
  <cp:lastModifiedBy>Administrator</cp:lastModifiedBy>
  <dcterms:modified xsi:type="dcterms:W3CDTF">2013-02-25T14:02:44Z</dcterms:modified>
  <cp:revision>3</cp:revision>
  <dc:subject/>
  <dc:title>Snímka 1</dc:title>
</cp:coreProperties>
</file>