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E14-6E6B-4778-9363-B245505F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D75-4C26-46B6-A2B7-3311C7B6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921-B9CD-4FC7-97AE-C2FFD2D5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C26-E226-4FF4-AC9E-4CBCC201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26B-EAAB-42DC-A727-B26BDE7D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9AA-4F39-40AB-961E-2299948D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641-C62F-4ACC-85BF-FA199162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C30-36F6-4DBC-A71F-61EEC083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D38-052C-4602-AE7E-D5EFA20B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8BE-9A1C-41AE-B31E-E5B2FD9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A8B-4DD3-4C85-B8E1-F3179C09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251-A88A-4C63-B374-2A7A100B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C9AF-8C60-4DC5-9DB4-C68C7B9DDD05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68F3-3040-46E8-AD6C-A8051DC5F88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80840"/>
            <a:ext cx="807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280" y="1599840"/>
            <a:ext cx="77151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600" spc="-1" strike="noStrike">
                <a:solidFill>
                  <a:srgbClr val="000000"/>
                </a:solidFill>
                <a:latin typeface="Calibri"/>
              </a:rPr>
              <a:t>Amaro klas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39379" t="2003" r="-985" b="50004"/>
          <a:stretch/>
        </p:blipFill>
        <p:spPr>
          <a:xfrm>
            <a:off x="7072200" y="228600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rcRect l="0" t="44002" r="54251" b="0"/>
          <a:stretch/>
        </p:blipFill>
        <p:spPr>
          <a:xfrm>
            <a:off x="428760" y="0"/>
            <a:ext cx="153828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1643040" y="3486240"/>
            <a:ext cx="3660840" cy="2592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3000240" y="1143000"/>
            <a:ext cx="978120" cy="190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5"/>
          <a:stretch/>
        </p:blipFill>
        <p:spPr>
          <a:xfrm>
            <a:off x="6572160" y="0"/>
            <a:ext cx="1911600" cy="2700360"/>
          </a:xfrm>
          <a:prstGeom prst="rect">
            <a:avLst/>
          </a:prstGeom>
          <a:ln w="0">
            <a:noFill/>
          </a:ln>
        </p:spPr>
      </p:pic>
      <p:sp>
        <p:nvSpPr>
          <p:cNvPr id="51" name="Obláčik 11"/>
          <p:cNvSpPr/>
          <p:nvPr/>
        </p:nvSpPr>
        <p:spPr>
          <a:xfrm>
            <a:off x="4143240" y="214200"/>
            <a:ext cx="2357640" cy="1928880"/>
          </a:xfrm>
          <a:prstGeom prst="cloudCallout">
            <a:avLst>
              <a:gd name="adj1" fmla="val 94435"/>
              <a:gd name="adj2" fmla="val -4961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hoj kamav tumenge te sikhavel miro k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ípka doprava 12"/>
          <p:cNvSpPr/>
          <p:nvPr/>
        </p:nvSpPr>
        <p:spPr>
          <a:xfrm flipV="1" rot="9744600">
            <a:off x="1717200" y="328320"/>
            <a:ext cx="2357640" cy="10396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n miri geniba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Šípka doprava 16"/>
          <p:cNvSpPr/>
          <p:nvPr/>
        </p:nvSpPr>
        <p:spPr>
          <a:xfrm rot="21025800">
            <a:off x="428400" y="2000160"/>
            <a:ext cx="2786040" cy="12146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kadaha me ndro klas  irinav hin oda  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Šípka dolu 17"/>
          <p:cNvSpPr/>
          <p:nvPr/>
        </p:nvSpPr>
        <p:spPr>
          <a:xfrm rot="697800">
            <a:off x="3063960" y="2072880"/>
            <a:ext cx="2371680" cy="228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ndro klasa phiras  dešuštar sikhľu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Šípka doprava 18"/>
          <p:cNvSpPr/>
          <p:nvPr/>
        </p:nvSpPr>
        <p:spPr>
          <a:xfrm>
            <a:off x="0" y="3571920"/>
            <a:ext cx="1785960" cy="13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Hin amen  šov abl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ípka doprava 19"/>
          <p:cNvSpPr/>
          <p:nvPr/>
        </p:nvSpPr>
        <p:spPr>
          <a:xfrm>
            <a:off x="428760" y="5715000"/>
            <a:ext cx="4214520" cy="1143000"/>
          </a:xfrm>
          <a:prstGeom prst="rightArrow">
            <a:avLst>
              <a:gd name="adj1" fmla="val 72537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men hin dešuštar skamiňa the efta skamiň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Šípka doprava 20"/>
          <p:cNvSpPr/>
          <p:nvPr/>
        </p:nvSpPr>
        <p:spPr>
          <a:xfrm flipV="1" rot="10800000">
            <a:off x="5285880" y="4714920"/>
            <a:ext cx="3000600" cy="1285920"/>
          </a:xfrm>
          <a:prstGeom prst="rightArrow">
            <a:avLst>
              <a:gd name="adj1" fmla="val 100000"/>
              <a:gd name="adj2" fmla="val 572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nglal hiňi jekh stolkos the jekh skamiňori odoj bešel e raňi sikhaď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Šípka doprava 21"/>
          <p:cNvSpPr/>
          <p:nvPr/>
        </p:nvSpPr>
        <p:spPr>
          <a:xfrm>
            <a:off x="5643720" y="2643120"/>
            <a:ext cx="1714320" cy="15001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ri sikhľareskri taš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1640" y="97920"/>
            <a:ext cx="504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Copyright by QualiRom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V </a:t>
            </a:r>
            <a:r>
              <a:rPr b="0" lang="sk-SK" sz="1100" spc="-1" strike="noStrike">
                <a:solidFill>
                  <a:srgbClr val="000000"/>
                </a:solidFill>
                <a:latin typeface="Calibri"/>
                <a:ea typeface="Calibri"/>
              </a:rPr>
              <a:t>š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kole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  <a:ea typeface="Calibri"/>
              </a:rPr>
              <a:t>a1_east-slovak_secondary_sk_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ußzeilenplatzhalter 22"/>
          <p:cNvSpPr/>
          <p:nvPr/>
        </p:nvSpPr>
        <p:spPr>
          <a:xfrm>
            <a:off x="4572000" y="6381720"/>
            <a:ext cx="45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V škole 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0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9:37:19Z</dcterms:created>
  <dc:creator>Gymnázium</dc:creator>
  <dc:description/>
  <dc:language>en-US</dc:language>
  <cp:lastModifiedBy>Administrator</cp:lastModifiedBy>
  <dcterms:modified xsi:type="dcterms:W3CDTF">2013-02-26T11:04:43Z</dcterms:modified>
  <cp:revision>3</cp:revision>
  <dc:subject/>
  <dc:title>Snímka 1</dc:title>
</cp:coreProperties>
</file>