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4A7-FA2A-45EC-8D03-F27FCA56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20A-8A80-4816-8953-73C4C8F0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5FA-6520-4E36-86C1-78D22CEC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043-B49E-4485-94BD-B10CB6D4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FD1-22AF-4927-840E-DD8DDC06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0F2-379B-4837-930B-1CFD786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7C6-9CF6-40C5-B859-1418884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44D-AC5B-459C-9AA3-E039BE25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CE5-AA3C-4634-A7FE-8C38E40C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5A9-E807-437E-B78A-BC6D351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1B8-A611-40FF-8427-B8D4D78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564-FA2C-45EA-B181-5493B65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8BE3-602E-4991-9E2B-AC2C2CBED62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Zástupný symbol obsahu 3" descr=""/>
          <p:cNvPicPr/>
          <p:nvPr/>
        </p:nvPicPr>
        <p:blipFill>
          <a:blip r:embed="rId1"/>
          <a:stretch/>
        </p:blipFill>
        <p:spPr>
          <a:xfrm>
            <a:off x="993600" y="1279440"/>
            <a:ext cx="715680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Obdĺžnik 4"/>
          <p:cNvSpPr/>
          <p:nvPr/>
        </p:nvSpPr>
        <p:spPr>
          <a:xfrm>
            <a:off x="928800" y="1071720"/>
            <a:ext cx="3071880" cy="27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ĺžnik 5"/>
          <p:cNvSpPr/>
          <p:nvPr/>
        </p:nvSpPr>
        <p:spPr>
          <a:xfrm>
            <a:off x="5143680" y="3857760"/>
            <a:ext cx="3357360" cy="2214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ĺžnik 6"/>
          <p:cNvSpPr/>
          <p:nvPr/>
        </p:nvSpPr>
        <p:spPr>
          <a:xfrm>
            <a:off x="3929040" y="3643200"/>
            <a:ext cx="1214640" cy="228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ĺžnik 7"/>
          <p:cNvSpPr/>
          <p:nvPr/>
        </p:nvSpPr>
        <p:spPr>
          <a:xfrm>
            <a:off x="1571760" y="2500200"/>
            <a:ext cx="2428920" cy="3571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ĺžnik 8"/>
          <p:cNvSpPr/>
          <p:nvPr/>
        </p:nvSpPr>
        <p:spPr>
          <a:xfrm>
            <a:off x="3357720" y="1214280"/>
            <a:ext cx="1071360" cy="3357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bdĺžnik 9"/>
          <p:cNvGrpSpPr/>
          <p:nvPr/>
        </p:nvGrpSpPr>
        <p:grpSpPr>
          <a:xfrm>
            <a:off x="798480" y="2610000"/>
            <a:ext cx="1901880" cy="3394080"/>
            <a:chOff x="798480" y="2610000"/>
            <a:chExt cx="1901880" cy="3394080"/>
          </a:xfrm>
        </p:grpSpPr>
        <p:pic>
          <p:nvPicPr>
            <p:cNvPr id="49" name="Obdĺžnik 9" descr=""/>
            <p:cNvPicPr/>
            <p:nvPr/>
          </p:nvPicPr>
          <p:blipFill>
            <a:blip r:embed="rId2"/>
            <a:stretch/>
          </p:blipFill>
          <p:spPr>
            <a:xfrm>
              <a:off x="798480" y="2610000"/>
              <a:ext cx="190188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57160" y="2643120"/>
              <a:ext cx="178596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Obdĺžnik 10"/>
          <p:cNvSpPr/>
          <p:nvPr/>
        </p:nvSpPr>
        <p:spPr>
          <a:xfrm>
            <a:off x="4286160" y="785880"/>
            <a:ext cx="3786120" cy="3143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920" y="6498720"/>
            <a:ext cx="8486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obsahu 3" descr=""/>
          <p:cNvPicPr/>
          <p:nvPr/>
        </p:nvPicPr>
        <p:blipFill>
          <a:blip r:embed="rId1"/>
          <a:stretch/>
        </p:blipFill>
        <p:spPr>
          <a:xfrm>
            <a:off x="1571760" y="1214280"/>
            <a:ext cx="571500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Usmiata tvár 8"/>
          <p:cNvSpPr/>
          <p:nvPr/>
        </p:nvSpPr>
        <p:spPr>
          <a:xfrm>
            <a:off x="1143000" y="3929040"/>
            <a:ext cx="3214800" cy="26431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Usmiata tvár 9"/>
          <p:cNvSpPr/>
          <p:nvPr/>
        </p:nvSpPr>
        <p:spPr>
          <a:xfrm>
            <a:off x="4643280" y="4000680"/>
            <a:ext cx="2500560" cy="2428560"/>
          </a:xfrm>
          <a:prstGeom prst="smileyFace">
            <a:avLst>
              <a:gd name="adj" fmla="val 9282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Usmiata tvár 10"/>
          <p:cNvSpPr/>
          <p:nvPr/>
        </p:nvSpPr>
        <p:spPr>
          <a:xfrm>
            <a:off x="1143000" y="1000080"/>
            <a:ext cx="2357280" cy="250020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Usmiata tvár 11"/>
          <p:cNvSpPr/>
          <p:nvPr/>
        </p:nvSpPr>
        <p:spPr>
          <a:xfrm>
            <a:off x="2571840" y="1000080"/>
            <a:ext cx="3214440" cy="3429000"/>
          </a:xfrm>
          <a:prstGeom prst="smileyFace">
            <a:avLst>
              <a:gd name="adj" fmla="val 9282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Usmiata tvár 12"/>
          <p:cNvGrpSpPr/>
          <p:nvPr/>
        </p:nvGrpSpPr>
        <p:grpSpPr>
          <a:xfrm>
            <a:off x="938160" y="2249640"/>
            <a:ext cx="3189240" cy="2968560"/>
            <a:chOff x="938160" y="2249640"/>
            <a:chExt cx="3189240" cy="2968560"/>
          </a:xfrm>
        </p:grpSpPr>
        <p:pic>
          <p:nvPicPr>
            <p:cNvPr id="60" name="Usmiata tvár 12" descr=""/>
            <p:cNvPicPr/>
            <p:nvPr/>
          </p:nvPicPr>
          <p:blipFill>
            <a:blip r:embed="rId2"/>
            <a:stretch/>
          </p:blipFill>
          <p:spPr>
            <a:xfrm>
              <a:off x="938160" y="2249640"/>
              <a:ext cx="31892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449360" y="2705040"/>
              <a:ext cx="217332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Usmiata tvár 13"/>
          <p:cNvSpPr/>
          <p:nvPr/>
        </p:nvSpPr>
        <p:spPr>
          <a:xfrm>
            <a:off x="3786120" y="2286000"/>
            <a:ext cx="2071800" cy="400068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Usmiata tvár 14"/>
          <p:cNvSpPr/>
          <p:nvPr/>
        </p:nvSpPr>
        <p:spPr>
          <a:xfrm>
            <a:off x="5143680" y="928800"/>
            <a:ext cx="2428560" cy="35719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 flipV="1" rot="10800000">
            <a:off x="-360" y="6401160"/>
            <a:ext cx="860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obsahu 3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62616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Srdce 4"/>
          <p:cNvSpPr/>
          <p:nvPr/>
        </p:nvSpPr>
        <p:spPr>
          <a:xfrm>
            <a:off x="4714920" y="4643280"/>
            <a:ext cx="3643200" cy="2214720"/>
          </a:xfrm>
          <a:custGeom>
            <a:avLst/>
            <a:gdLst>
              <a:gd name="textAreaLeft" fmla="*/ 606960 w 3643200"/>
              <a:gd name="textAreaRight" fmla="*/ 3036240 w 3643200"/>
              <a:gd name="textAreaTop" fmla="*/ 553680 h 2214720"/>
              <a:gd name="textAreaBottom" fmla="*/ 1476720 h 2214720"/>
            </a:gdLst>
            <a:ahLst/>
            <a:rect l="textAreaLeft" t="textAreaTop" r="textAreaRight" b="textAreaBottom"/>
            <a:pathLst>
              <a:path w="3643313" h="2214562">
                <a:moveTo>
                  <a:pt x="1821657" y="553641"/>
                </a:moveTo>
                <a:cubicBezTo>
                  <a:pt x="2580680" y="-738187"/>
                  <a:pt x="5540872" y="553641"/>
                  <a:pt x="1821657" y="2214562"/>
                </a:cubicBezTo>
                <a:cubicBezTo>
                  <a:pt x="-1897559" y="553641"/>
                  <a:pt x="1062633" y="-738187"/>
                  <a:pt x="1821657" y="55364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rdce 5"/>
          <p:cNvSpPr/>
          <p:nvPr/>
        </p:nvSpPr>
        <p:spPr>
          <a:xfrm>
            <a:off x="5286240" y="857160"/>
            <a:ext cx="3000600" cy="2857680"/>
          </a:xfrm>
          <a:custGeom>
            <a:avLst/>
            <a:gdLst>
              <a:gd name="textAreaLeft" fmla="*/ 500040 w 3000600"/>
              <a:gd name="textAreaRight" fmla="*/ 2500560 w 3000600"/>
              <a:gd name="textAreaTop" fmla="*/ 714240 h 2857680"/>
              <a:gd name="textAreaBottom" fmla="*/ 1905120 h 2857680"/>
            </a:gdLst>
            <a:ahLst/>
            <a:rect l="textAreaLeft" t="textAreaTop" r="textAreaRight" b="textAreaBottom"/>
            <a:pathLst>
              <a:path w="3000375" h="2857500">
                <a:moveTo>
                  <a:pt x="1500188" y="714375"/>
                </a:moveTo>
                <a:cubicBezTo>
                  <a:pt x="2125266" y="-952500"/>
                  <a:pt x="4563070" y="714375"/>
                  <a:pt x="1500188" y="2857500"/>
                </a:cubicBezTo>
                <a:cubicBezTo>
                  <a:pt x="-1562695" y="714375"/>
                  <a:pt x="875109" y="-952500"/>
                  <a:pt x="1500188" y="714375"/>
                </a:cubicBez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rdce 6"/>
          <p:cNvSpPr/>
          <p:nvPr/>
        </p:nvSpPr>
        <p:spPr>
          <a:xfrm>
            <a:off x="1214280" y="1000080"/>
            <a:ext cx="2857680" cy="2857680"/>
          </a:xfrm>
          <a:custGeom>
            <a:avLst/>
            <a:gdLst>
              <a:gd name="textAreaLeft" fmla="*/ 476280 w 2857680"/>
              <a:gd name="textAreaRight" fmla="*/ 2381400 w 2857680"/>
              <a:gd name="textAreaTop" fmla="*/ 714240 h 2857680"/>
              <a:gd name="textAreaBottom" fmla="*/ 1905120 h 2857680"/>
            </a:gdLst>
            <a:ahLst/>
            <a:rect l="textAreaLeft" t="textAreaTop" r="textAreaRight" b="textAreaBottom"/>
            <a:pathLst>
              <a:path w="2857500" h="2857500">
                <a:moveTo>
                  <a:pt x="1428750" y="714375"/>
                </a:moveTo>
                <a:cubicBezTo>
                  <a:pt x="2024063" y="-952500"/>
                  <a:pt x="4345781" y="714375"/>
                  <a:pt x="1428750" y="2857500"/>
                </a:cubicBezTo>
                <a:cubicBezTo>
                  <a:pt x="-1488281" y="714375"/>
                  <a:pt x="833437" y="-952500"/>
                  <a:pt x="1428750" y="714375"/>
                </a:cubicBezTo>
                <a:close/>
              </a:path>
            </a:pathLst>
          </a:cu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rdce 7"/>
          <p:cNvSpPr/>
          <p:nvPr/>
        </p:nvSpPr>
        <p:spPr>
          <a:xfrm>
            <a:off x="1714680" y="4857840"/>
            <a:ext cx="571320" cy="71280"/>
          </a:xfrm>
          <a:custGeom>
            <a:avLst/>
            <a:gdLst>
              <a:gd name="textAreaLeft" fmla="*/ 95040 w 571320"/>
              <a:gd name="textAreaRight" fmla="*/ 476280 w 571320"/>
              <a:gd name="textAreaTop" fmla="*/ 17640 h 71280"/>
              <a:gd name="textAreaBottom" fmla="*/ 47520 h 71280"/>
            </a:gdLst>
            <a:ahLst/>
            <a:rect l="textAreaLeft" t="textAreaTop" r="textAreaRight" b="textAreaBottom"/>
            <a:pathLst>
              <a:path w="571500" h="71438">
                <a:moveTo>
                  <a:pt x="285750" y="17860"/>
                </a:moveTo>
                <a:cubicBezTo>
                  <a:pt x="404813" y="-23813"/>
                  <a:pt x="869156" y="17860"/>
                  <a:pt x="285750" y="71438"/>
                </a:cubicBezTo>
                <a:cubicBezTo>
                  <a:pt x="-297656" y="17860"/>
                  <a:pt x="166687" y="-23813"/>
                  <a:pt x="285750" y="1786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rdce 8"/>
          <p:cNvSpPr/>
          <p:nvPr/>
        </p:nvSpPr>
        <p:spPr>
          <a:xfrm>
            <a:off x="3643200" y="714240"/>
            <a:ext cx="2571840" cy="2714760"/>
          </a:xfrm>
          <a:custGeom>
            <a:avLst/>
            <a:gdLst>
              <a:gd name="textAreaLeft" fmla="*/ 428400 w 2571840"/>
              <a:gd name="textAreaRight" fmla="*/ 2143440 w 2571840"/>
              <a:gd name="textAreaTop" fmla="*/ 678600 h 2714760"/>
              <a:gd name="textAreaBottom" fmla="*/ 1810080 h 2714760"/>
            </a:gdLst>
            <a:ahLst/>
            <a:rect l="textAreaLeft" t="textAreaTop" r="textAreaRight" b="textAreaBottom"/>
            <a:pathLst>
              <a:path w="2571750" h="2714625">
                <a:moveTo>
                  <a:pt x="1285875" y="678656"/>
                </a:moveTo>
                <a:cubicBezTo>
                  <a:pt x="1821656" y="-904875"/>
                  <a:pt x="3911203" y="678656"/>
                  <a:pt x="1285875" y="2714625"/>
                </a:cubicBezTo>
                <a:cubicBezTo>
                  <a:pt x="-1339453" y="678656"/>
                  <a:pt x="750094" y="-904875"/>
                  <a:pt x="1285875" y="678656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rdce 9"/>
          <p:cNvSpPr/>
          <p:nvPr/>
        </p:nvSpPr>
        <p:spPr>
          <a:xfrm>
            <a:off x="2000160" y="4071960"/>
            <a:ext cx="3214800" cy="2786040"/>
          </a:xfrm>
          <a:custGeom>
            <a:avLst/>
            <a:gdLst>
              <a:gd name="textAreaLeft" fmla="*/ 535680 w 3214800"/>
              <a:gd name="textAreaRight" fmla="*/ 2679120 w 3214800"/>
              <a:gd name="textAreaTop" fmla="*/ 696600 h 2786040"/>
              <a:gd name="textAreaBottom" fmla="*/ 1857600 h 2786040"/>
            </a:gdLst>
            <a:ahLst/>
            <a:rect l="textAreaLeft" t="textAreaTop" r="textAreaRight" b="textAreaBottom"/>
            <a:pathLst>
              <a:path w="3214688" h="2786062">
                <a:moveTo>
                  <a:pt x="1607344" y="696516"/>
                </a:moveTo>
                <a:cubicBezTo>
                  <a:pt x="2277071" y="-928687"/>
                  <a:pt x="4889005" y="696516"/>
                  <a:pt x="1607344" y="2786062"/>
                </a:cubicBezTo>
                <a:cubicBezTo>
                  <a:pt x="-1674317" y="696516"/>
                  <a:pt x="937617" y="-928687"/>
                  <a:pt x="1607344" y="696516"/>
                </a:cubicBez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rdce 10"/>
          <p:cNvSpPr/>
          <p:nvPr/>
        </p:nvSpPr>
        <p:spPr>
          <a:xfrm>
            <a:off x="1571760" y="2071800"/>
            <a:ext cx="5357520" cy="3500280"/>
          </a:xfrm>
          <a:custGeom>
            <a:avLst/>
            <a:gdLst>
              <a:gd name="textAreaLeft" fmla="*/ 892800 w 5357520"/>
              <a:gd name="textAreaRight" fmla="*/ 4464720 w 5357520"/>
              <a:gd name="textAreaTop" fmla="*/ 874800 h 3500280"/>
              <a:gd name="textAreaBottom" fmla="*/ 2333520 h 3500280"/>
            </a:gdLst>
            <a:ahLst/>
            <a:rect l="textAreaLeft" t="textAreaTop" r="textAreaRight" b="textAreaBottom"/>
            <a:pathLst>
              <a:path w="5357813" h="3500437">
                <a:moveTo>
                  <a:pt x="2678907" y="875109"/>
                </a:moveTo>
                <a:cubicBezTo>
                  <a:pt x="3795118" y="-1166813"/>
                  <a:pt x="8148341" y="875109"/>
                  <a:pt x="2678907" y="3500437"/>
                </a:cubicBezTo>
                <a:cubicBezTo>
                  <a:pt x="-2790528" y="875109"/>
                  <a:pt x="1562695" y="-1166813"/>
                  <a:pt x="2678907" y="875109"/>
                </a:cubicBez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rdce 11"/>
          <p:cNvSpPr/>
          <p:nvPr/>
        </p:nvSpPr>
        <p:spPr>
          <a:xfrm>
            <a:off x="5000760" y="2786040"/>
            <a:ext cx="3143160" cy="3071880"/>
          </a:xfrm>
          <a:custGeom>
            <a:avLst/>
            <a:gdLst>
              <a:gd name="textAreaLeft" fmla="*/ 523800 w 3143160"/>
              <a:gd name="textAreaRight" fmla="*/ 2619360 w 3143160"/>
              <a:gd name="textAreaTop" fmla="*/ 767880 h 3071880"/>
              <a:gd name="textAreaBottom" fmla="*/ 2048040 h 3071880"/>
            </a:gdLst>
            <a:ahLst/>
            <a:rect l="textAreaLeft" t="textAreaTop" r="textAreaRight" b="textAreaBottom"/>
            <a:pathLst>
              <a:path w="3143250" h="3071812">
                <a:moveTo>
                  <a:pt x="1571625" y="767953"/>
                </a:moveTo>
                <a:cubicBezTo>
                  <a:pt x="2226469" y="-1023937"/>
                  <a:pt x="4780359" y="767953"/>
                  <a:pt x="1571625" y="3071812"/>
                </a:cubicBezTo>
                <a:cubicBezTo>
                  <a:pt x="-1637109" y="767953"/>
                  <a:pt x="916781" y="-1023937"/>
                  <a:pt x="1571625" y="767953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64814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 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5000400" cy="5435640"/>
          </a:xfrm>
          <a:prstGeom prst="rect">
            <a:avLst/>
          </a:prstGeom>
          <a:ln w="0">
            <a:noFill/>
          </a:ln>
        </p:spPr>
      </p:pic>
      <p:sp>
        <p:nvSpPr>
          <p:cNvPr id="78" name="Slnko 4"/>
          <p:cNvSpPr/>
          <p:nvPr/>
        </p:nvSpPr>
        <p:spPr>
          <a:xfrm>
            <a:off x="1357200" y="285840"/>
            <a:ext cx="2500560" cy="2357280"/>
          </a:xfrm>
          <a:prstGeom prst="sun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nko 5"/>
          <p:cNvSpPr/>
          <p:nvPr/>
        </p:nvSpPr>
        <p:spPr>
          <a:xfrm>
            <a:off x="1571760" y="2857680"/>
            <a:ext cx="2714400" cy="3786120"/>
          </a:xfrm>
          <a:prstGeom prst="sun">
            <a:avLst>
              <a:gd name="adj" fmla="val 25000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nko 6"/>
          <p:cNvSpPr/>
          <p:nvPr/>
        </p:nvSpPr>
        <p:spPr>
          <a:xfrm>
            <a:off x="5072040" y="2500200"/>
            <a:ext cx="2214720" cy="4857840"/>
          </a:xfrm>
          <a:prstGeom prst="sun">
            <a:avLst>
              <a:gd name="adj" fmla="val 25000"/>
            </a:avLst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nko 7"/>
          <p:cNvSpPr/>
          <p:nvPr/>
        </p:nvSpPr>
        <p:spPr>
          <a:xfrm>
            <a:off x="4286160" y="0"/>
            <a:ext cx="3643560" cy="3929040"/>
          </a:xfrm>
          <a:prstGeom prst="sun">
            <a:avLst>
              <a:gd name="adj" fmla="val 25000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nko 8"/>
          <p:cNvSpPr/>
          <p:nvPr/>
        </p:nvSpPr>
        <p:spPr>
          <a:xfrm>
            <a:off x="2643120" y="2000160"/>
            <a:ext cx="4214880" cy="48578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nko 9"/>
          <p:cNvSpPr/>
          <p:nvPr/>
        </p:nvSpPr>
        <p:spPr>
          <a:xfrm>
            <a:off x="2286000" y="785880"/>
            <a:ext cx="2786040" cy="4357800"/>
          </a:xfrm>
          <a:prstGeom prst="sun">
            <a:avLst>
              <a:gd name="adj" fmla="val 25000"/>
            </a:avLst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nko 10"/>
          <p:cNvSpPr/>
          <p:nvPr/>
        </p:nvSpPr>
        <p:spPr>
          <a:xfrm>
            <a:off x="2214720" y="-214200"/>
            <a:ext cx="4500360" cy="4286160"/>
          </a:xfrm>
          <a:prstGeom prst="sun">
            <a:avLst>
              <a:gd name="adj" fmla="val 250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79280" y="6343920"/>
            <a:ext cx="896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Rómske remeslá a povolania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35:40Z</dcterms:created>
  <dc:creator>Gymnázium</dc:creator>
  <dc:description/>
  <dc:language>en-US</dc:language>
  <cp:lastModifiedBy>Administrator</cp:lastModifiedBy>
  <dcterms:modified xsi:type="dcterms:W3CDTF">2013-02-26T10:41:08Z</dcterms:modified>
  <cp:revision>3</cp:revision>
  <dc:subject/>
  <dc:title>Snímka 1</dc:title>
</cp:coreProperties>
</file>