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chimes.wav" ContentType="audio/x-wav"/>
  <Override PartName="/ppt/media/image8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1AC-E3B3-4D3B-80C7-4E04A267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BA3-1F4B-42AF-A64A-759C41CD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543-E1C6-4963-88A2-BD20B29A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1FB-77E7-4C16-9DAA-32A17083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E6E-E9E6-401F-845F-290DBFA0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BA0-31F6-42EF-B604-1D221054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963-EEA4-4DEA-BBBB-195284A0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74C-DFB8-4B2B-8E67-CD97DFF6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20B-0D6A-4FA2-8162-FB307FDE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F5D-8521-4F4B-8CE0-8624D052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CF4-B6FA-4E71-B3DD-853AD7BA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6D1-76BE-4FD3-BCF5-77B24F02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89F4-6457-4A2E-A0CE-4195B0FE6B28}" type="slidenum">
              <a:rPr b="0" lang="sk-SK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Calibri"/>
              </a:rPr>
              <a:t>Pro slovačiko čhib pes sikhľares te irinel slovačikoha čhibah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Na slovenskom jazyku sa učíš písať po slovensk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000240" y="42876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V 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š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kole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Calibri"/>
              </a:rPr>
              <a:t>Pro športos tu sikľares te chuťkere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Na telesnej výchove sa učíš skákať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928960" y="2571840"/>
            <a:ext cx="3571920" cy="2347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V 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š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kole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Calibri"/>
              </a:rPr>
              <a:t>Pre matematika pes sikhľares te rachinel o ginutn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Na matematike sa učíš rátať čísli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071720" y="2714760"/>
            <a:ext cx="4286160" cy="335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5715000" y="3214800"/>
            <a:ext cx="2666880" cy="1714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V 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š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kole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8047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Calibri"/>
              </a:rPr>
              <a:t>Pro čitrarďipen pes sikhľos te čitrarel </a:t>
            </a:r>
            <a:br>
              <a:rPr sz="4000"/>
            </a:br>
            <a:r>
              <a:rPr b="0" lang="sk-SK" sz="4000" spc="-1" strike="noStrike">
                <a:solidFill>
                  <a:srgbClr val="ffffff"/>
                </a:solidFill>
                <a:latin typeface="Calibri"/>
              </a:rPr>
              <a:t>o čitro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Na výtvarnej výchove sa učíš kresliť obrázok 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14680" y="2643120"/>
            <a:ext cx="5214600" cy="3500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V 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š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kole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1844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Calibri"/>
              </a:rPr>
              <a:t>Pro romaňi čhib tut sikhľos o čhib tires amalis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280" y="1989000"/>
            <a:ext cx="8147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Na rómskom jazyku sa učíš jazyk tvojho priateľ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14760" y="307188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V 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š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kole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1471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Calibri"/>
              </a:rPr>
              <a:t>Pro anglikaňi čhib pes sikhľos lumakero čhi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000" y="1989000"/>
            <a:ext cx="8218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Na anglickom jazyku sa učíš jazyk svet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143160" y="3714840"/>
            <a:ext cx="2409840" cy="1895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V 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š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kole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20:18:28Z</dcterms:created>
  <dc:creator>Gymnázium</dc:creator>
  <dc:description/>
  <dc:language>en-US</dc:language>
  <cp:lastModifiedBy>Administrator</cp:lastModifiedBy>
  <dcterms:modified xsi:type="dcterms:W3CDTF">2013-02-25T14:24:44Z</dcterms:modified>
  <cp:revision>3</cp:revision>
  <dc:subject/>
  <dc:title>Pro slovačiko čhib pes sikhľares te irinel slovačikoha čhibaha </dc:title>
</cp:coreProperties>
</file>