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E55-0702-4193-9A51-5AAE1A37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E60-A6D2-4F59-918F-D8AB75A9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34C-ABB9-4DF5-B327-A1BB9FF3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ECF-916E-462E-AC43-7AA985B9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756-FCBE-460A-8CFB-578DE6BC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A08-F287-40C5-AB43-B3493805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956-99E9-4BA4-B7D4-447AA2BD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E0A-D907-4A31-B4E9-6D5FCE71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221-BA3B-4570-8602-25B9097C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5A4-650E-4E11-AF89-3365EA95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33E-51DD-4561-A2BB-B7D4381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974-390B-4049-B7B6-6321DE6C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5B82-F49D-4626-AD37-0C3DCFDB1D8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dĺžnik 1"/>
          <p:cNvSpPr/>
          <p:nvPr/>
        </p:nvSpPr>
        <p:spPr>
          <a:xfrm>
            <a:off x="5143680" y="285840"/>
            <a:ext cx="32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c000"/>
                </a:solidFill>
                <a:latin typeface="Calibri"/>
              </a:rPr>
              <a:t>Miro kurikulum</a:t>
            </a:r>
            <a:br>
              <a:rPr sz="3600"/>
            </a:br>
            <a:r>
              <a:rPr b="1" lang="sk-SK" sz="3600" spc="-1" strike="noStrike">
                <a:solidFill>
                  <a:srgbClr val="ffc000"/>
                </a:solidFill>
                <a:latin typeface="Calibri"/>
              </a:rPr>
              <a:t>Môj životop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ok 0" descr="DSCF5130.JPG"/>
          <p:cNvPicPr/>
          <p:nvPr/>
        </p:nvPicPr>
        <p:blipFill>
          <a:blip r:embed="rId1"/>
          <a:stretch/>
        </p:blipFill>
        <p:spPr>
          <a:xfrm>
            <a:off x="4214880" y="200016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3"/>
          <p:cNvSpPr/>
          <p:nvPr/>
        </p:nvSpPr>
        <p:spPr>
          <a:xfrm>
            <a:off x="500040" y="0"/>
            <a:ext cx="4030560" cy="2433600"/>
          </a:xfrm>
          <a:prstGeom prst="wedgeRoundRectCallout">
            <a:avLst>
              <a:gd name="adj1" fmla="val 76888"/>
              <a:gd name="adj2" fmla="val 80449"/>
              <a:gd name="adj3" fmla="val 16667"/>
            </a:avLst>
          </a:prstGeom>
          <a:gradFill rotWithShape="0">
            <a:gsLst>
              <a:gs pos="0">
                <a:srgbClr val="8bffff"/>
              </a:gs>
              <a:gs pos="100000">
                <a:srgbClr val="deffff"/>
              </a:gs>
            </a:gsLst>
            <a:lin ang="16200000"/>
          </a:gradFill>
          <a:ln w="9360">
            <a:solidFill>
              <a:srgbClr val="05d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Ja mám veľkú rodinu. Doma sme jedenásti. Ja sa volám Tomáš. Mám 14 rokov. Moja mama sa volá Viera a otec sa volá Milan. Mám troch bratov a tri sestry.  Bývam v meste Bardejov. Máme dve izby. Náš dom je mal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428760" y="3500280"/>
            <a:ext cx="3443040" cy="2982960"/>
          </a:xfrm>
          <a:prstGeom prst="wedgeRoundRectCallout">
            <a:avLst>
              <a:gd name="adj1" fmla="val 71675"/>
              <a:gd name="adj2" fmla="val -50189"/>
              <a:gd name="adj3" fmla="val 16667"/>
            </a:avLst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Calibri"/>
              </a:rPr>
              <a:t>Man hin bari famiľ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Calibri"/>
              </a:rPr>
              <a:t>Amen sam khere  dešujekh džene.  Me man vičinav Tomáš. Hin man  dešuštár berš.  Miri daj pes vičinel Viera, o dad pes vičinel Milan. Hin man trin phrala the  trin pheňa. Bešav andro foro Bardejov. Amen hin duj soba. Amaro kher hino cik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eck 6"/>
          <p:cNvSpPr/>
          <p:nvPr/>
        </p:nvSpPr>
        <p:spPr>
          <a:xfrm>
            <a:off x="4572000" y="595008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Moje spoločenstvo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36:42Z</dcterms:created>
  <dc:creator>Gymnázium</dc:creator>
  <dc:description/>
  <dc:language>en-US</dc:language>
  <cp:lastModifiedBy>Administrator</cp:lastModifiedBy>
  <dcterms:modified xsi:type="dcterms:W3CDTF">2013-02-25T14:01:32Z</dcterms:modified>
  <cp:revision>4</cp:revision>
  <dc:subject/>
  <dc:title>Snímka 1</dc:title>
</cp:coreProperties>
</file>