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7AC4-E511-491E-9034-686B4DE4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195F-7CE7-47A4-A78C-99B30C67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FC4C-5546-4A0A-83C4-52DC75819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E892-9B80-4958-A9B0-134818EB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EE01-A883-4D09-A92A-93BAED94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BDB3-44BD-4D49-9790-3B0C512B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D59F-9E20-4B36-814A-D44BF08E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F0CA-6E92-4567-AA83-9D948856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CF90-0EC5-4F25-8456-460D7DA6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D500-F2CA-47A2-A1C4-C04E068A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4420-F6D4-420C-9414-E176F7FD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85FD-DAF8-49F3-B656-8112EB56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D5F3-52BB-40F0-B246-75E92E0E30A3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dĺžnik 3" descr=""/>
          <p:cNvPicPr/>
          <p:nvPr/>
        </p:nvPicPr>
        <p:blipFill>
          <a:blip r:embed="rId1"/>
          <a:stretch/>
        </p:blipFill>
        <p:spPr>
          <a:xfrm>
            <a:off x="-60480" y="1554120"/>
            <a:ext cx="9118800" cy="21034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0" y="62294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Copyright by QualiRom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Z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ľuby a umeleck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 z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ujmov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 činnosť   a1_east-slovak_secondary_sk_1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857680" cy="1981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4143240" y="0"/>
            <a:ext cx="2895840" cy="1581120"/>
          </a:xfrm>
          <a:prstGeom prst="rect">
            <a:avLst/>
          </a:prstGeom>
          <a:ln w="0">
            <a:noFill/>
          </a:ln>
        </p:spPr>
      </p:pic>
      <p:pic>
        <p:nvPicPr>
          <p:cNvPr id="45" name="Obláčik 3" descr=""/>
          <p:cNvPicPr/>
          <p:nvPr/>
        </p:nvPicPr>
        <p:blipFill>
          <a:blip r:embed="rId3"/>
          <a:stretch/>
        </p:blipFill>
        <p:spPr>
          <a:xfrm>
            <a:off x="1079640" y="-30240"/>
            <a:ext cx="3187440" cy="2401920"/>
          </a:xfrm>
          <a:prstGeom prst="rect">
            <a:avLst/>
          </a:prstGeom>
          <a:ln w="0">
            <a:noFill/>
          </a:ln>
        </p:spPr>
      </p:pic>
      <p:sp>
        <p:nvSpPr>
          <p:cNvPr id="46" name="Obláčik 4"/>
          <p:cNvSpPr/>
          <p:nvPr/>
        </p:nvSpPr>
        <p:spPr>
          <a:xfrm>
            <a:off x="7143840" y="0"/>
            <a:ext cx="2214360" cy="1357200"/>
          </a:xfrm>
          <a:prstGeom prst="cloudCallout">
            <a:avLst>
              <a:gd name="adj1" fmla="val -62152"/>
              <a:gd name="adj2" fmla="val 3671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te  pľivi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-500040" y="2143080"/>
            <a:ext cx="3492360" cy="2052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5"/>
          <a:stretch/>
        </p:blipFill>
        <p:spPr>
          <a:xfrm>
            <a:off x="6546960" y="1500120"/>
            <a:ext cx="2597040" cy="1979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6"/>
          <a:stretch/>
        </p:blipFill>
        <p:spPr>
          <a:xfrm>
            <a:off x="6643800" y="3402000"/>
            <a:ext cx="2765160" cy="3456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7"/>
          <a:stretch/>
        </p:blipFill>
        <p:spPr>
          <a:xfrm>
            <a:off x="1143000" y="4286160"/>
            <a:ext cx="2857680" cy="2952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8"/>
          <a:stretch/>
        </p:blipFill>
        <p:spPr>
          <a:xfrm>
            <a:off x="4714920" y="2786040"/>
            <a:ext cx="1942920" cy="2171880"/>
          </a:xfrm>
          <a:prstGeom prst="rect">
            <a:avLst/>
          </a:prstGeom>
          <a:ln w="0">
            <a:noFill/>
          </a:ln>
        </p:spPr>
      </p:pic>
      <p:sp>
        <p:nvSpPr>
          <p:cNvPr id="52" name="Obláčik 10"/>
          <p:cNvSpPr/>
          <p:nvPr/>
        </p:nvSpPr>
        <p:spPr>
          <a:xfrm>
            <a:off x="2571840" y="1857240"/>
            <a:ext cx="2428920" cy="1285920"/>
          </a:xfrm>
          <a:prstGeom prst="cloudCallout">
            <a:avLst>
              <a:gd name="adj1" fmla="val -62189"/>
              <a:gd name="adj2" fmla="val 1402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Te bicigľinel 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bláčik 11"/>
          <p:cNvSpPr/>
          <p:nvPr/>
        </p:nvSpPr>
        <p:spPr>
          <a:xfrm>
            <a:off x="4786200" y="1071720"/>
            <a:ext cx="1500480" cy="1928520"/>
          </a:xfrm>
          <a:prstGeom prst="cloudCallout">
            <a:avLst>
              <a:gd name="adj1" fmla="val 103648"/>
              <a:gd name="adj2" fmla="val 402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Te bavinel  ten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bláčik 12"/>
          <p:cNvSpPr/>
          <p:nvPr/>
        </p:nvSpPr>
        <p:spPr>
          <a:xfrm>
            <a:off x="-214200" y="4786200"/>
            <a:ext cx="1857240" cy="1857600"/>
          </a:xfrm>
          <a:prstGeom prst="cloudCallout">
            <a:avLst>
              <a:gd name="adj1" fmla="val 76518"/>
              <a:gd name="adj2" fmla="val 27828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Te bavinel volejbaľ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bláčik 14"/>
          <p:cNvSpPr/>
          <p:nvPr/>
        </p:nvSpPr>
        <p:spPr>
          <a:xfrm>
            <a:off x="3786120" y="4786200"/>
            <a:ext cx="2786040" cy="1571760"/>
          </a:xfrm>
          <a:prstGeom prst="cloudCallout">
            <a:avLst>
              <a:gd name="adj1" fmla="val 73004"/>
              <a:gd name="adj2" fmla="val -42388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Te bavinel basketbal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bláčik 15"/>
          <p:cNvSpPr/>
          <p:nvPr/>
        </p:nvSpPr>
        <p:spPr>
          <a:xfrm>
            <a:off x="2214720" y="3214800"/>
            <a:ext cx="2643120" cy="1500120"/>
          </a:xfrm>
          <a:prstGeom prst="cloudCallout">
            <a:avLst>
              <a:gd name="adj1" fmla="val 63949"/>
              <a:gd name="adj2" fmla="val -55282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Te phirel pro kerekakere korču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3995640" y="6370560"/>
            <a:ext cx="26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Copyright by QualiRom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Z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ľuby a umeleck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 z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ujmov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 činnosť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a1_east-slovak_secondary_sk_1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5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70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Jevendutno športos</a:t>
            </a:r>
            <a:br>
              <a:rPr sz="4400"/>
            </a:b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Zimné špor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Copyright by QualiRom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Z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ľuby a umeleck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 z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ujmov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 činnosť   a1_east-slovak_secondary_sk_1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57120" y="428616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7072200" y="3857760"/>
            <a:ext cx="1762200" cy="2600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3"/>
          <a:stretch/>
        </p:blipFill>
        <p:spPr>
          <a:xfrm>
            <a:off x="285840" y="285840"/>
            <a:ext cx="2676600" cy="1904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4"/>
          <a:stretch/>
        </p:blipFill>
        <p:spPr>
          <a:xfrm>
            <a:off x="5370480" y="0"/>
            <a:ext cx="3773520" cy="2664000"/>
          </a:xfrm>
          <a:prstGeom prst="rect">
            <a:avLst/>
          </a:prstGeom>
          <a:ln w="0">
            <a:noFill/>
          </a:ln>
        </p:spPr>
      </p:pic>
      <p:sp>
        <p:nvSpPr>
          <p:cNvPr id="66" name="Obláčik 8"/>
          <p:cNvSpPr/>
          <p:nvPr/>
        </p:nvSpPr>
        <p:spPr>
          <a:xfrm>
            <a:off x="2928960" y="857160"/>
            <a:ext cx="2143080" cy="1714680"/>
          </a:xfrm>
          <a:prstGeom prst="cloudCallout">
            <a:avLst>
              <a:gd name="adj1" fmla="val -80324"/>
              <a:gd name="adj2" fmla="val 3094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Te ližinel 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bláčik 9"/>
          <p:cNvSpPr/>
          <p:nvPr/>
        </p:nvSpPr>
        <p:spPr>
          <a:xfrm>
            <a:off x="2071800" y="2357280"/>
            <a:ext cx="1928880" cy="2143440"/>
          </a:xfrm>
          <a:prstGeom prst="cloudCallout">
            <a:avLst>
              <a:gd name="adj1" fmla="val -74250"/>
              <a:gd name="adj2" fmla="val 4807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te bavinel hokej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bláčik 11"/>
          <p:cNvSpPr/>
          <p:nvPr/>
        </p:nvSpPr>
        <p:spPr>
          <a:xfrm>
            <a:off x="3857760" y="2214720"/>
            <a:ext cx="2214360" cy="1928520"/>
          </a:xfrm>
          <a:prstGeom prst="cloudCallout">
            <a:avLst>
              <a:gd name="adj1" fmla="val 105944"/>
              <a:gd name="adj2" fmla="val -516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Te sankinel 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bláčik 12"/>
          <p:cNvSpPr/>
          <p:nvPr/>
        </p:nvSpPr>
        <p:spPr>
          <a:xfrm>
            <a:off x="3500280" y="4714920"/>
            <a:ext cx="2714760" cy="1643040"/>
          </a:xfrm>
          <a:prstGeom prst="cloudCallout">
            <a:avLst>
              <a:gd name="adj1" fmla="val 89708"/>
              <a:gd name="adj2" fmla="val -177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Te korčulľinel 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0" y="63943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Copyright by QualiRom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Z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ľuby a umeleck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 z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ujmov</a:t>
            </a: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Calibri"/>
              </a:rPr>
              <a:t> činnosť   a1_east-slovak_secondary_sk_1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14:41:26Z</dcterms:created>
  <dc:creator>Gymnázium</dc:creator>
  <dc:description/>
  <dc:language>en-US</dc:language>
  <cp:lastModifiedBy>Administrator</cp:lastModifiedBy>
  <dcterms:modified xsi:type="dcterms:W3CDTF">2013-02-26T14:58:03Z</dcterms:modified>
  <cp:revision>3</cp:revision>
  <dc:subject/>
  <dc:title>Snímka 1</dc:title>
</cp:coreProperties>
</file>