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D4E-1549-4690-9C32-488927EB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2A4-7EA5-450F-88CD-1C61E55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898-6C3B-4D73-99FA-71054DBA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8B7-BFF8-4431-9F3D-C4F2A0FD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D2F-9AE1-49CD-8186-BCC98212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B410-CDAC-47F1-AB4E-1D49C2B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61C-633D-4A7E-8DD0-16B4FB2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07B7-7FE7-46F1-BD94-A5CC12A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1B06-30FC-471A-A252-CBB1C8AE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7F8A-C6EE-4ED1-9BA8-E3ED7D4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F689-5B90-4501-886C-7C3F9BF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E3F-0B3F-430C-9AA5-042DF64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81D-318C-4137-BEA0-D3B428C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38FC-B723-4650-B149-BA1A03A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5825-A794-451A-A318-C12C2C8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E38E-EB31-4801-A2CF-270E923A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0A7-E5B8-4E4F-94E3-0583E0A9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B87DF-DF66-481E-B04E-6CE3171D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EF858-1EF2-4984-B779-818D65E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99C9-205E-4F91-8482-D3F31358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BD76D-DC9E-41CE-B0C3-D115AA3E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341B5-1DDA-41DF-AFA8-976246E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64E-E756-4554-A8D3-876AF61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4DBB6-F434-413B-828A-0AF2063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1AB93-3F37-4F99-87B5-DC31E08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EEF4-5FD6-4674-AC9C-B111320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4D3E4-74ED-48DD-98D7-C10212C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BFF17-463B-49A8-B04B-A5A4CD6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ED2B7-DE7D-4622-B071-902C44B1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D2112-0C9E-4F86-A557-AFDA684F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C153-919F-47E4-BB59-838EA28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DFA0-3BE3-4C33-B510-6CDAFD9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7D51-256D-4FBC-9768-17E52E0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769-1E61-4650-9118-C2D501D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BC64-E35F-4C58-9425-A4960FCB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05A6-5EE4-4641-86C4-66E1799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7742-C043-4E6D-82B7-F9E76DD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CD0D-389C-492C-ACD6-C200E3C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46F9-4C95-464A-8B89-CB2376E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0983-AFE8-430A-8278-DDE488F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6801-C939-44A4-9FFC-B9A102A9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8477-3AEF-4B6E-95D6-B24EE3EC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B5F3-F61B-4B81-8641-70553B4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E899D-0334-4E29-B972-64D4C289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3FF-739C-484E-B14C-A3A4004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1DA4E-4B7D-4732-B8A1-92EC52C6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419FD-7133-4E14-890F-2E1D1A5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A304C-50BC-436B-B104-4071771E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B9D49-1C53-460A-AFCF-4A0ECE61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9CB71-E2E3-4243-9A1B-707C510F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EF2CE-CD95-4B3A-8FC3-7CB4141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57438-84C9-4204-8BAD-D7F254A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0043A-E1E3-4F00-AD2E-75512C4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1954A-0DB2-4C0C-B965-6D5CDE4B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F4BC1-DF4A-4A64-8BD8-978404E7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5E9-2267-4D9D-B3FD-F8BB695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956BC-60E2-4249-B2DE-AA02C64C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554C1-CB0A-48AD-904D-8B3B18C2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72826-54BA-4C0C-A8B4-3583B28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A99EF-AE6B-40AF-ADAE-3652337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46FFD-292E-46AC-9895-6278E8A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AE711-3427-4149-AD09-61B3E74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4BA29-4CD2-4046-B073-9BA8CA0C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25704-B98D-4DEC-BCA5-92799C7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045A5-6C0D-44BE-B35C-24B762A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1F58E-602A-437D-9719-3E5F1AB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E4C-F417-4D3C-A6C3-A9F6285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E22F4-F068-4682-AF40-26B087D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54F9B-A17F-49C0-8C5B-068903A4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A1D1D-D09D-4C1A-8922-37EBC85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C319D-1480-48FD-A184-E602FC3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56CA-FFC7-46E0-8138-D4DDD8B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BB0B3-31AD-4C70-88E6-6B3C2E3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2E758-0864-4832-A56D-875DB08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1458A-E820-4FE7-8673-4D416A7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E3034-D5F7-4C72-BD63-D94FF1F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980E2-8F6A-407F-AF58-6FE24A5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0F0-137E-4255-84C8-C729B93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CB3FA-BACF-4DAC-B953-C99A926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89B5A-8301-41C5-9CA5-D072B07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83BF9-156E-44E5-8E8C-F1D1F6C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F2EE3-72A2-407A-9A5B-2F8BAA66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A60DC-5100-4650-A75D-7B342573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F15-79A2-4AC8-8CA7-902BA0E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B17F-31FA-4AF5-8183-37864F764087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ĺžnik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ĺžnik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ĺžnik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ĺžni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vná spojnica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vná spojnica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vná spojnica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vná spojnica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vná spojnica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vná spojnica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ĺž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á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á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á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6B7-3D31-4E70-AE28-166E1E3AA51B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7C7-4237-4791-9DF8-56FEA12146BB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ĺžnik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vná spojnica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vná spojnica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vná spojnica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vná spojnica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ĺžnik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á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á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á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á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á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vná spojnica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ABC2-A71B-43FA-9D9F-7F445EA24028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B375-A19D-4457-920E-E53B8BAABBA6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vná spojnica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vná spojnica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vná spojnica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vná spojnica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á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F10-2D2F-449D-BA6C-C0235B1A7331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vná spojnica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á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vná spojnica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ĺžnik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vná spojnica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vná spojnica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vná spojnica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E9F5-3374-49AC-8B68-E7A5FD6C7693}" type="slidenum">
              <a:rPr b="1" lang="sk-SK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obsahu 2" descr=""/>
          <p:cNvPicPr/>
          <p:nvPr/>
        </p:nvPicPr>
        <p:blipFill>
          <a:blip r:embed="rId1"/>
          <a:stretch/>
        </p:blipFill>
        <p:spPr>
          <a:xfrm>
            <a:off x="-96840" y="304920"/>
            <a:ext cx="8886960" cy="6175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6215040" y="357120"/>
            <a:ext cx="2286000" cy="1733760"/>
          </a:xfrm>
          <a:prstGeom prst="rect">
            <a:avLst/>
          </a:prstGeom>
          <a:ln w="0">
            <a:noFill/>
          </a:ln>
        </p:spPr>
      </p:pic>
      <p:pic>
        <p:nvPicPr>
          <p:cNvPr id="353" name="Obdĺžnik 5" descr=""/>
          <p:cNvPicPr/>
          <p:nvPr/>
        </p:nvPicPr>
        <p:blipFill>
          <a:blip r:embed="rId3"/>
          <a:stretch/>
        </p:blipFill>
        <p:spPr>
          <a:xfrm>
            <a:off x="3382920" y="396720"/>
            <a:ext cx="1438200" cy="408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4"/>
          <a:stretch/>
        </p:blipFill>
        <p:spPr>
          <a:xfrm>
            <a:off x="6072120" y="2357280"/>
            <a:ext cx="2359080" cy="15843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7"/>
          <p:cNvSpPr txBox="1"/>
          <p:nvPr/>
        </p:nvSpPr>
        <p:spPr>
          <a:xfrm>
            <a:off x="4714920" y="785880"/>
            <a:ext cx="928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ja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6" name="WordArt 11"/>
          <p:cNvSpPr txBox="1"/>
          <p:nvPr/>
        </p:nvSpPr>
        <p:spPr>
          <a:xfrm>
            <a:off x="3500280" y="1285920"/>
            <a:ext cx="1071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vu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5"/>
          <a:stretch/>
        </p:blipFill>
        <p:spPr>
          <a:xfrm>
            <a:off x="6429240" y="4286160"/>
            <a:ext cx="1973520" cy="1295640"/>
          </a:xfrm>
          <a:prstGeom prst="rect">
            <a:avLst/>
          </a:prstGeom>
          <a:ln w="0">
            <a:noFill/>
          </a:ln>
        </p:spPr>
      </p:pic>
      <p:sp>
        <p:nvSpPr>
          <p:cNvPr id="358" name="WordArt 13"/>
          <p:cNvSpPr txBox="1"/>
          <p:nvPr/>
        </p:nvSpPr>
        <p:spPr>
          <a:xfrm>
            <a:off x="3000240" y="1785960"/>
            <a:ext cx="2579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rangen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9" name="Picture 12" descr=""/>
          <p:cNvPicPr/>
          <p:nvPr/>
        </p:nvPicPr>
        <p:blipFill>
          <a:blip r:embed="rId6"/>
          <a:stretch/>
        </p:blipFill>
        <p:spPr>
          <a:xfrm>
            <a:off x="4357800" y="5000760"/>
            <a:ext cx="1508040" cy="103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7"/>
          <a:stretch/>
        </p:blipFill>
        <p:spPr>
          <a:xfrm>
            <a:off x="684360" y="3500280"/>
            <a:ext cx="2047680" cy="3095640"/>
          </a:xfrm>
          <a:prstGeom prst="rect">
            <a:avLst/>
          </a:prstGeom>
          <a:ln w="0">
            <a:noFill/>
          </a:ln>
        </p:spPr>
      </p:pic>
      <p:sp>
        <p:nvSpPr>
          <p:cNvPr id="361" name="Textfeld 12"/>
          <p:cNvSpPr/>
          <p:nvPr/>
        </p:nvSpPr>
        <p:spPr>
          <a:xfrm>
            <a:off x="2771640" y="6381720"/>
            <a:ext cx="61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Copyright by QualiRom  Rómske remeslá a povolania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07:25:02Z</dcterms:created>
  <dc:creator>Elenka</dc:creator>
  <dc:description/>
  <dc:language>en-US</dc:language>
  <cp:lastModifiedBy>Administrator</cp:lastModifiedBy>
  <dcterms:modified xsi:type="dcterms:W3CDTF">2013-02-26T10:43:32Z</dcterms:modified>
  <cp:revision>19</cp:revision>
  <dc:subject/>
  <dc:title>Uhádneš remeslá ?</dc:title>
</cp:coreProperties>
</file>