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770-A8E7-432E-942C-1B418ECA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C7D-83ED-430D-907B-00F97481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F969D-AD33-4FBF-9693-9200E3F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9287C-C619-4159-9925-1C71845E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195C1-9C2D-4FE1-9541-B3E2A22B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A6436-14EF-4C2A-86B4-36D84095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745BE-C039-4022-A7EA-A4457E2E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CB076-F670-4C1E-A9F6-49DB2E1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CF836-E4BA-4FED-84FA-AA686DAE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F6AF0-CA11-429E-B9C4-B8188E21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EABC8-3DAA-40D2-87A8-0AC344A5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43E-1E96-4FCE-8B9E-A5EA7D53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F3B-7D7F-4079-87E2-173D0602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C4A-ECE3-42DC-877B-A1191037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0293-1E2A-4D25-AEBA-AFC776A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007-C558-4447-83E7-7C56898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04BD-C627-4DEF-91FD-D4A14D3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E900-5248-49CB-81B2-8E6F2AE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871-5F18-43A3-9BCB-36CC347B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9B3-1468-45BE-ACA5-3E051405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2C5-D1C0-4D1E-8DE2-2B1A64AE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68EB-7E82-48B3-8C31-77041B54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3BF4-6B41-43E3-8909-D8D959B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9896-DA70-4330-AD0C-27156F0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2842-CE08-4B86-9AE0-F3D10967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92ED-1232-493F-95AE-F96DBEF2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5A11-EF50-4604-B21F-34CC1258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352E-39C2-4F45-B451-C54D20DA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9DBB-58E4-498F-AA90-CA12067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D605-8ADA-4618-BD14-4F53415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83D8-1F65-459E-A888-6B50F34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96B-ACEA-4594-9A06-A90FF1F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2E6C-4867-44E6-8C5F-22D9EDE8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96EA-2FC4-471E-B959-331F0994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7779-6EE0-47B0-9DD4-4C9303F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78539-1EF2-4A95-83E8-09764C7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E416-3D5D-4568-8035-C8D408E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494B-F273-4C28-BD5E-1538F6D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72F6-4BE2-43EF-A82F-AF566F1D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A00A-2F80-4597-BDDC-30149C42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E5F3-79BE-4F93-B9B5-C9075A75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8140-61FF-4B1E-99A9-BB4E883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CC0-9108-45A4-88B5-4AB8A7E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3507-4C93-4B29-AE69-5429DE3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1138-413E-4289-B784-C383059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5878-2F4A-46ED-81A2-D151D2E8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F7A7-F798-4B7E-8753-670ECE5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5027-4F7E-4C67-8BBF-5B34B6E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426C6-5977-4C3D-A29C-5FC1A2E0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29E7-4262-479D-BA3F-7CC9009C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9E8C-A67B-4EAC-B0F4-5826A87F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CA0A-0C06-45C6-A2BC-3D94C70F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93F35-4BB3-4015-B3AF-7C2E3F47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29C-7779-4F3A-91F1-FE1B9858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8E74E-BF94-4C53-8456-A2ADFB41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A839E-0E40-49BB-BC1C-5CFF7E7A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D250-0D6C-4AD0-9C5C-CCDC19D3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15A0-EE10-4A47-947C-CFE81A55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2218-0AF0-43AF-99EE-671EB647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A1B0-E589-4B1D-9ACA-7F7E1C03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AB75-9BA0-4269-AA00-B9D1A3A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A034-ED2D-42C5-A01D-5AF2AD2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BE15-8D62-45BD-9266-348192EC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70FD8-A236-4DE1-9990-E2448B5D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103-BC3C-491E-849B-E55A8389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3C14-793B-443D-82EB-10809FBB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13162-A7F0-4F0B-A1BB-CA55CF19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CA7C-6A48-4B08-86E8-3414845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8638-23FA-47AD-8F8D-F6F561D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9407A-5447-4DF4-ABDE-823D6A0F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AAA3-2819-4C81-9A09-01E6DDEB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BC52-FF86-4AC4-9999-0CCC3DA9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3EC95-E01E-465B-A967-DA145F56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F5516-EA9D-4FD3-9E55-47441A8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F871-930E-45D8-9058-C8A0C1B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ADF-DE24-46AC-B8C5-BC1ECDA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30FF1-0CAB-4480-83CC-99B961D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1EEC0-AA45-49D6-A3BD-32318057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59A1-399A-4BEF-9E23-A4474251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8DFCC-8704-4480-A2B4-17F14893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1943E-2283-478F-94A8-3579976E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6F434-CDED-41F1-85E0-674F6F9D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0BC97-5048-41A3-8F93-30A06598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3C73-359D-4F19-BF1E-98F9307D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D851-5821-4682-A3AA-D1228ED6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DC3E-F33C-41ED-A88A-A3A3202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594-A503-43CF-97D4-5168A46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500C1-0E55-4AE3-92D1-E38D124A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B79A2-8DC2-433B-86AF-92D8002D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FBDF-3D3D-4DF7-BF9D-CB5D4862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DCD9B-2D04-4033-A1FE-903D394D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32AD7-6BCF-4350-969F-74C420F4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4E711-0F84-49EB-BCD6-4CD538AC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6B93D-6C10-4CC4-8503-5CF88DF1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8D6E7-719D-48FF-AC28-CA1AC4D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93878-301A-4B18-A4E8-D242C5E3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F314-15D5-4803-8147-8FA9635C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512-3798-451A-B7D5-2564B73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3F58-61D8-4BAB-B579-599A9BC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A5997-F02E-4312-A653-D1CC6CD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84DFC-A36C-4E0C-A530-336AF0B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C878-EC23-4B53-ACF8-AF653271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5223C-3B9B-40E8-9E37-7780F0C5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8E16-0F5B-4E55-866D-76CEBA9C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FFC5-A947-4E7B-9ABB-86DD8695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EC110-65E1-40A1-8197-D211BE5B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5BB36-F2C2-43DF-B2C3-76B6D29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C7FD2-1B4A-40F8-8359-E7837F1E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vná spojnic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B94-37FD-42B0-BC98-A7E4B9188E1F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217-E3E4-4312-A023-FC41FD584B67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ovná spojnic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ovná spojnic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vná spojnic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FF67-AEE7-49B1-B9A1-E18BD0633C2A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3574-1C7A-4B2F-B376-C8A975A65F32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ovná spojnic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ovná spojnic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ovná spojnic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E237-1910-4F64-8B11-11D33511910C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5722-8394-4DBC-B922-6158ACB367CC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ovná spojnic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4B1D-369C-4B6B-B7B0-0EECA2E4827D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2A13-9CF8-452F-AB68-DB6C7869017A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ovná spojnic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0EC-9A11-4383-82F9-DA7D33C49B62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0B1-F365-4B19-B501-B68D0359B2BB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27B8-3B06-404E-A320-27AABB72A206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EDEC-ADFD-4AF1-A5DC-AA94EB0A6CFF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ovná spojnic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5802-C8A4-455C-93E8-76012A528B73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C38-F94E-4A52-A7C3-81818A5696E7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BD5E-3F5E-4B21-AF9E-F92258E2AAA5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311-B504-4615-90F9-D6BF7C5BA3A7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2EDF-1C15-45C0-A1D3-57A720E20479}" type="datetime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B56C-2492-4830-93C8-26CFAECC3E57}" type="slidenum"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87440" y="817560"/>
            <a:ext cx="7980120" cy="5284800"/>
          </a:xfrm>
          <a:prstGeom prst="rect">
            <a:avLst/>
          </a:prstGeom>
          <a:ln w="0">
            <a:noFill/>
          </a:ln>
        </p:spPr>
      </p:pic>
      <p:sp>
        <p:nvSpPr>
          <p:cNvPr id="400" name="Fußzeilenplatzhalter 2"/>
          <p:cNvSpPr/>
          <p:nvPr/>
        </p:nvSpPr>
        <p:spPr>
          <a:xfrm>
            <a:off x="0" y="6237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3600360" cy="3168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1908000" cy="2556000"/>
          </a:xfrm>
          <a:prstGeom prst="rect">
            <a:avLst/>
          </a:prstGeom>
          <a:ln w="0">
            <a:noFill/>
          </a:ln>
        </p:spPr>
      </p:pic>
      <p:sp>
        <p:nvSpPr>
          <p:cNvPr id="435" name="Fußzeilenplatzhalter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4951440" cy="3708360"/>
          </a:xfrm>
          <a:prstGeom prst="rect">
            <a:avLst/>
          </a:prstGeom>
          <a:ln w="0">
            <a:noFill/>
          </a:ln>
        </p:spPr>
      </p:pic>
      <p:sp>
        <p:nvSpPr>
          <p:cNvPr id="438" name="Fußzeilenplatzhalter 3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5399280" cy="4464360"/>
          </a:xfrm>
          <a:prstGeom prst="rect">
            <a:avLst/>
          </a:prstGeom>
          <a:ln w="0">
            <a:noFill/>
          </a:ln>
        </p:spPr>
      </p:pic>
      <p:sp>
        <p:nvSpPr>
          <p:cNvPr id="441" name="Fußzeilenplatzhalter 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6281640" cy="2411640"/>
          </a:xfrm>
          <a:prstGeom prst="rect">
            <a:avLst/>
          </a:prstGeom>
          <a:ln w="0">
            <a:noFill/>
          </a:ln>
        </p:spPr>
      </p:pic>
      <p:sp>
        <p:nvSpPr>
          <p:cNvPr id="444" name="Fußzeilenplatzhalter 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5329080" cy="3887640"/>
          </a:xfrm>
          <a:prstGeom prst="rect">
            <a:avLst/>
          </a:prstGeom>
          <a:ln w="0">
            <a:noFill/>
          </a:ln>
        </p:spPr>
      </p:pic>
      <p:sp>
        <p:nvSpPr>
          <p:cNvPr id="447" name="Fußzeilenplatzhalter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>
            <a:off x="2600280" y="1969920"/>
            <a:ext cx="4095720" cy="3695760"/>
          </a:xfrm>
          <a:prstGeom prst="rect">
            <a:avLst/>
          </a:prstGeom>
          <a:ln w="0">
            <a:noFill/>
          </a:ln>
        </p:spPr>
      </p:pic>
      <p:sp>
        <p:nvSpPr>
          <p:cNvPr id="450" name="Fußzeilenplatzhalt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hteck 5"/>
          <p:cNvSpPr/>
          <p:nvPr/>
        </p:nvSpPr>
        <p:spPr>
          <a:xfrm>
            <a:off x="0" y="60930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Arial"/>
              </a:rPr>
              <a:t>Copyright by QualiRom</a:t>
            </a:r>
            <a:r>
              <a:rPr b="0" lang="sk-SK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900" spc="-1" strike="noStrike">
                <a:solidFill>
                  <a:srgbClr val="000000"/>
                </a:solidFill>
                <a:latin typeface="Arial"/>
              </a:rPr>
              <a:t> Príroda a zvierata </a:t>
            </a:r>
            <a:r>
              <a:rPr b="0" lang="sk-SK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900" spc="-1" strike="noStrike">
                <a:solidFill>
                  <a:srgbClr val="000000"/>
                </a:solidFill>
                <a:latin typeface="Arial"/>
              </a:rPr>
              <a:t>a1_east-slovak_secondary_sk_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480060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Fußzeilenplatzhalter 4"/>
          <p:cNvSpPr/>
          <p:nvPr/>
        </p:nvSpPr>
        <p:spPr>
          <a:xfrm>
            <a:off x="0" y="6237360"/>
            <a:ext cx="622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400720" cy="3889080"/>
          </a:xfrm>
          <a:prstGeom prst="rect">
            <a:avLst/>
          </a:prstGeom>
          <a:ln w="0">
            <a:noFill/>
          </a:ln>
        </p:spPr>
      </p:pic>
      <p:sp>
        <p:nvSpPr>
          <p:cNvPr id="408" name="Fußzeilenplatzhalter 4"/>
          <p:cNvSpPr/>
          <p:nvPr/>
        </p:nvSpPr>
        <p:spPr>
          <a:xfrm>
            <a:off x="0" y="6524640"/>
            <a:ext cx="817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4381560" cy="2876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tretch/>
        </p:blipFill>
        <p:spPr>
          <a:xfrm>
            <a:off x="5292720" y="3500280"/>
            <a:ext cx="2362320" cy="2200320"/>
          </a:xfrm>
          <a:prstGeom prst="rect">
            <a:avLst/>
          </a:prstGeom>
          <a:ln w="0">
            <a:noFill/>
          </a:ln>
        </p:spPr>
      </p:pic>
      <p:sp>
        <p:nvSpPr>
          <p:cNvPr id="413" name="Fußzeilenplatzhalter 5"/>
          <p:cNvSpPr/>
          <p:nvPr/>
        </p:nvSpPr>
        <p:spPr>
          <a:xfrm>
            <a:off x="324000" y="6597720"/>
            <a:ext cx="88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3"/>
          <a:stretch/>
        </p:blipFill>
        <p:spPr>
          <a:xfrm>
            <a:off x="4211640" y="2421000"/>
            <a:ext cx="3848040" cy="3600360"/>
          </a:xfrm>
          <a:prstGeom prst="rect">
            <a:avLst/>
          </a:prstGeom>
          <a:ln w="0">
            <a:noFill/>
          </a:ln>
        </p:spPr>
      </p:pic>
      <p:sp>
        <p:nvSpPr>
          <p:cNvPr id="417" name="Fußzeilenplatzhalter 5"/>
          <p:cNvSpPr/>
          <p:nvPr/>
        </p:nvSpPr>
        <p:spPr>
          <a:xfrm>
            <a:off x="179280" y="638172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3203640" y="1341360"/>
            <a:ext cx="3468600" cy="3467160"/>
          </a:xfrm>
          <a:prstGeom prst="rect">
            <a:avLst/>
          </a:prstGeom>
          <a:ln w="0">
            <a:noFill/>
          </a:ln>
        </p:spPr>
      </p:pic>
      <p:sp>
        <p:nvSpPr>
          <p:cNvPr id="420" name="Fußzeilenplatzhalter 4"/>
          <p:cNvSpPr/>
          <p:nvPr/>
        </p:nvSpPr>
        <p:spPr>
          <a:xfrm>
            <a:off x="108000" y="609300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3744720" cy="3456000"/>
          </a:xfrm>
          <a:prstGeom prst="rect">
            <a:avLst/>
          </a:prstGeom>
          <a:ln w="0">
            <a:noFill/>
          </a:ln>
        </p:spPr>
      </p:pic>
      <p:sp>
        <p:nvSpPr>
          <p:cNvPr id="425" name="Fußzeilenplatzhalter 5"/>
          <p:cNvSpPr/>
          <p:nvPr/>
        </p:nvSpPr>
        <p:spPr>
          <a:xfrm>
            <a:off x="250920" y="6093000"/>
            <a:ext cx="88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2843280" y="2492280"/>
            <a:ext cx="2903400" cy="3192480"/>
          </a:xfrm>
          <a:prstGeom prst="rect">
            <a:avLst/>
          </a:prstGeom>
          <a:ln w="0">
            <a:noFill/>
          </a:ln>
        </p:spPr>
      </p:pic>
      <p:sp>
        <p:nvSpPr>
          <p:cNvPr id="428" name="Fußzeilenplatzhalter 4"/>
          <p:cNvSpPr/>
          <p:nvPr/>
        </p:nvSpPr>
        <p:spPr>
          <a:xfrm>
            <a:off x="0" y="616572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329080" cy="3888000"/>
          </a:xfrm>
          <a:prstGeom prst="rect">
            <a:avLst/>
          </a:prstGeom>
          <a:ln w="0">
            <a:noFill/>
          </a:ln>
        </p:spPr>
      </p:pic>
      <p:sp>
        <p:nvSpPr>
          <p:cNvPr id="431" name="Fußzeilenplatzhalter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Copyright by QualiRom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 Príroda a zvierata 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	</a:t>
            </a:r>
            <a:r>
              <a:rPr b="0" lang="sk-SK" sz="1200" spc="-1" strike="noStrike">
                <a:solidFill>
                  <a:srgbClr val="d38e27"/>
                </a:solidFill>
                <a:latin typeface="Franklin Gothic Book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7:26:24Z</dcterms:created>
  <dc:creator>Skola</dc:creator>
  <dc:description/>
  <dc:language>en-US</dc:language>
  <cp:lastModifiedBy>Administrator</cp:lastModifiedBy>
  <dcterms:modified xsi:type="dcterms:W3CDTF">2013-02-26T14:51:55Z</dcterms:modified>
  <cp:revision>4</cp:revision>
  <dc:subject/>
  <dc:title>So hi ada?   Zarzavľi vaj frukti ?  Phen sar pes vičinel !</dc:title>
</cp:coreProperties>
</file>