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AE43-C3F0-4F94-B27F-C641F781C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1566-73D2-4203-BDD0-515A287C7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CA18-3029-4041-8456-0B285716C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18C4-FBD7-484B-9124-91787F72A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F2DC-6F8B-4544-9249-37BBE2C89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0179-256C-4221-88BA-047AE71D5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EF1E-88A6-429E-ABC6-43E811608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B75D-6762-4273-93F4-1A4FCA195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A285-4C78-456C-BABA-2D8288567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5095-7470-43C1-B34F-2F8F645A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2040-7AAA-4314-980C-711C59B1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9D25-CCB5-4620-B66C-9BEBA751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7C6BE-775C-40A1-B712-5DC6D672D886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Calibri"/>
              </a:rPr>
              <a:t>Jednotné číslo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57120" y="1999800"/>
            <a:ext cx="84297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898989"/>
                </a:solidFill>
                <a:latin typeface="Calibri"/>
              </a:rPr>
              <a:t>(Ja)....................... bašavav pro lavu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898989"/>
                </a:solidFill>
                <a:latin typeface="Calibri"/>
              </a:rPr>
              <a:t>(On).........................pes biciklin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898989"/>
                </a:solidFill>
                <a:latin typeface="Calibri"/>
              </a:rPr>
              <a:t>(Ty).........................phires andri sikhaď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Ovál 3"/>
          <p:cNvSpPr/>
          <p:nvPr/>
        </p:nvSpPr>
        <p:spPr>
          <a:xfrm>
            <a:off x="2286000" y="2143080"/>
            <a:ext cx="1500120" cy="7146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ál 4"/>
          <p:cNvSpPr/>
          <p:nvPr/>
        </p:nvSpPr>
        <p:spPr>
          <a:xfrm>
            <a:off x="2857680" y="3000240"/>
            <a:ext cx="1500120" cy="7146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J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ál 5"/>
          <p:cNvSpPr/>
          <p:nvPr/>
        </p:nvSpPr>
        <p:spPr>
          <a:xfrm>
            <a:off x="2286000" y="3857760"/>
            <a:ext cx="1500120" cy="7142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0" y="621360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Copyright by QualiRom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Calibri"/>
              </a:rPr>
              <a:t>Z</a:t>
            </a: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á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Calibri"/>
              </a:rPr>
              <a:t>ľuby a umeleck</a:t>
            </a: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á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Calibri"/>
              </a:rPr>
              <a:t> z</a:t>
            </a: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á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Calibri"/>
              </a:rPr>
              <a:t>ujmov</a:t>
            </a: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á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Calibri"/>
              </a:rPr>
              <a:t> činnosť   a1_east-slovak_secondary_sk_11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9152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Množné čísl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(Oni) ......................phiren andro 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volnovachtoskero centru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(MY)......................pes rado bavinas le labdah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(Vy).......................šugar bašaven pro lavu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Ovál 3"/>
          <p:cNvSpPr/>
          <p:nvPr/>
        </p:nvSpPr>
        <p:spPr>
          <a:xfrm>
            <a:off x="1714680" y="1571760"/>
            <a:ext cx="1714320" cy="5713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J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ál 4"/>
          <p:cNvSpPr/>
          <p:nvPr/>
        </p:nvSpPr>
        <p:spPr>
          <a:xfrm>
            <a:off x="1571760" y="2571840"/>
            <a:ext cx="1714320" cy="5713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A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ál 5"/>
          <p:cNvSpPr/>
          <p:nvPr/>
        </p:nvSpPr>
        <p:spPr>
          <a:xfrm>
            <a:off x="1571760" y="3357720"/>
            <a:ext cx="1714320" cy="5713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Tu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0" y="61689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Copyright by QualiRom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Calibri"/>
              </a:rPr>
              <a:t>Z</a:t>
            </a: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á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Calibri"/>
              </a:rPr>
              <a:t>ľuby a umeleck</a:t>
            </a: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á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Calibri"/>
              </a:rPr>
              <a:t> z</a:t>
            </a: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á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Calibri"/>
              </a:rPr>
              <a:t>ujmov</a:t>
            </a: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á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Calibri"/>
              </a:rPr>
              <a:t> činnosť   a1_east-slovak_secondary_sk_11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19:43:36Z</dcterms:created>
  <dc:creator>Gymnázium</dc:creator>
  <dc:description/>
  <dc:language>en-US</dc:language>
  <cp:lastModifiedBy>Administrator</cp:lastModifiedBy>
  <dcterms:modified xsi:type="dcterms:W3CDTF">2013-02-26T15:01:05Z</dcterms:modified>
  <cp:revision>3</cp:revision>
  <dc:subject/>
  <dc:title>Jednotné číslo </dc:title>
</cp:coreProperties>
</file>