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13F8-BDE2-4DF1-90C4-FFDF5FBF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7DF0-2F53-48B6-9BCF-1052BAF1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211-AD0F-4CBF-93C0-E4FEBBAD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9752-8E7B-4730-8B31-6A0347E4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01EE-B837-4D30-8D8A-DEE1E392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8402-1377-4DD9-9137-37C33781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8DE8-B9D9-4A03-8D20-B1F7B626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EB94-10E9-4101-B9A3-A70C0637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5F47-AC21-434F-B2E9-7734F909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CA23-1468-4127-8A8C-B13B02B6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A2BC-B532-478B-97FF-1B20DF89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3F6-659A-4A80-9209-CB907851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559D-E784-4A28-835B-0548A38D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1F14-0B0C-4BC5-AF78-462AE416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C031-9AA0-4577-AA86-644B7225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9826-6344-4639-9DB1-D96988EC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7D3E-C344-4C2C-8C84-125001FE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EB68A-4698-45B9-9144-4CCBE605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A8AE7-C6A5-43C6-AECE-33EA82C0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3AB2E-D436-46BE-B68A-51EBA363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14CA7-0E04-4F68-9C8D-083B97ED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46DEA-15D9-4D56-8538-A87288E4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52D1-025B-4A3A-8F38-B9B60CA9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7CFBE-B055-44F3-8994-93A52B36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FC0D8-40E8-4612-9AF4-037E129D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65EE7-621E-4895-830F-71445F05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A5A60-F7BD-4111-B241-76EA44D6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F7D41-9A9B-48C3-8FA9-57F51770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E175B-25EF-42AB-BA2E-3552EAAF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718E0-9848-42FD-BE67-A8662F41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A55A7-31F7-43C0-9847-49D0492A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59296-E3AE-4989-80EF-B80D2C87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A202D-B117-46EE-B445-E32BDB67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D73E-1C3F-4672-A6CA-DC5B15E0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B18CF-EADD-4042-A438-C0BE56D5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FA3BB-4905-49E8-A017-6E6401B7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51322-53A0-4780-9DF1-A3BC4EC4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95F85-D2BD-44CA-AC4F-2ECEAD92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55864-D6CA-4C11-BF0C-EF4E45B0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C82B5-94FF-42B8-8417-8235CABE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E6A46-F25B-453F-BF77-013034A9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EC750-3DBC-45E2-835A-86E47FF8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CE065-104F-4F30-A983-26D5723C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6ACC9-7AD7-463E-A723-95F168B1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A4E4-FECB-47AD-9E72-70E15CC6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F0290-2AF8-40E8-AA67-BFA9110E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AD8BC-2112-4535-BD09-CC964B64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6B4A1-AC79-4EAD-9475-C715C307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8474F-A08D-43B3-A9F6-09CD033C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7E463-56EE-4545-8C7B-EE4FE18C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65D6C-EC96-4344-877F-039379B0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F370B-31D0-4D15-A593-51A7E528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EC1CC-C095-4BA3-AA4A-9ECE2109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A58BB-E692-46EC-A8F0-EBD2C741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EEA9E-A55E-4EFB-B35D-1F526872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5125-B7E3-4A4E-98BE-E1C43EC8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FA9AB-418F-429C-9E6D-F17C665F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B6157-4F04-4EB2-8101-3B40F180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2D4F3-5DDF-413E-A9ED-B3259A70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A6A37-2770-4475-99D5-33712347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D8B02-968A-4D20-8DF4-ABA8656F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6CE36-0823-4313-B4D0-1CFC20C1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E1A21-E984-4A3C-8E62-D7708C85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668BE-31E9-4CAD-8D69-65E47FB1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5D01D-51F9-4736-9633-59A45F6B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1E660-A82C-4784-91DB-870902BC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C5E9-F537-4E84-89C3-9188211A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CD881-7B13-4B34-BCF3-C2E8679F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70FD1-ABD7-498C-B78D-4227239A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8B497-5EF6-4970-9DC4-F3612BB2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DE77B-CC47-4625-A564-F6955424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A22B9-E4BA-4118-9F0D-F03CAA97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F38BC-B63D-4091-87C8-5E0894A0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91316-9303-4315-B65B-DBABC572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FC380-4F00-4A4E-8075-CF163925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CCD53-D282-4FEC-B68C-C061DB1C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C6E3A-7B2F-4848-A1CA-9F2B57C6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31DC-CFD7-4ACD-8344-DED4174A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017D3-1ED3-489F-94F5-F1027C2F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69486-F1A0-4930-A4AE-70A1ABBD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1192E-A059-4EFC-A51E-C14C1997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A45BA-961F-4F85-BA38-C23C79DF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DCCF8-C2E6-4C2C-85E2-19F4DD6B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37D-743B-4361-86D6-819752DD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ĺžni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ĺžni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9b8e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2da2b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da1f28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b641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39639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474b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880B-FAAB-4823-B0C1-DBF3B469874B}" type="slidenum">
              <a:rPr b="0" lang="sk-SK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ĺžni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ĺžnik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9b8e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2da2b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da1f28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b641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39639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474b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3A9B-C1AD-4380-99CF-76F6999F4BC4}" type="slidenum">
              <a:rPr b="0" lang="sk-SK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ĺžni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ĺžnik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9b8e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2da2b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da1f28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b641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39639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474b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B81D-685D-4F72-9F43-2A751DC6230C}" type="slidenum">
              <a:rPr b="0" lang="sk-SK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9b8e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2da2b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da1f28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b641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39639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474b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21FC-7BA8-47CB-9BDD-7E7A14F0827F}" type="slidenum">
              <a:rPr b="0" lang="sk-SK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ĺžni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ĺžni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ĺžnik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ĺžnik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9b8e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2da2b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da1f28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b641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39639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474b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7620-0D42-4DCE-AD14-4288F6CE0C93}" type="slidenum">
              <a:rPr b="0" lang="sk-SK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ĺžni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ĺžni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ĺžni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ĺžni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9b8e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2da2b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da1f28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b641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39639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474b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492A-BEB1-4FC3-A82F-03E2856B87A2}" type="slidenum">
              <a:rPr b="0" lang="sk-SK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ĺžni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ĺžnik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9b8e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2da2b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da1f28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b641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39639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474b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FEFF-4F20-46CD-B987-92B955897511}" type="slidenum">
              <a:rPr b="0" lang="sk-SK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Nadpis 1" descr=""/>
          <p:cNvPicPr/>
          <p:nvPr/>
        </p:nvPicPr>
        <p:blipFill>
          <a:blip r:embed="rId1"/>
          <a:stretch/>
        </p:blipFill>
        <p:spPr>
          <a:xfrm>
            <a:off x="682560" y="3176640"/>
            <a:ext cx="8089920" cy="21146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4360" y="5876640"/>
            <a:ext cx="8076960" cy="7858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7acbe0"/>
                </a:solidFill>
                <a:latin typeface="Corbel"/>
              </a:rPr>
              <a:t>Me sľom o čhavo</a:t>
            </a:r>
            <a:r>
              <a:rPr b="0" lang="sk-SK" sz="19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sk-SK" sz="19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sk-SK" sz="19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sk-SK" sz="19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sk-SK" sz="3000" spc="-1" strike="noStrike">
                <a:solidFill>
                  <a:srgbClr val="ec767c"/>
                </a:solidFill>
                <a:latin typeface="Corbel"/>
              </a:rPr>
              <a:t>Me sľom e čhaj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-6480" y="633240"/>
            <a:ext cx="3865680" cy="6516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3"/>
          <a:stretch/>
        </p:blipFill>
        <p:spPr>
          <a:xfrm>
            <a:off x="5261040" y="853920"/>
            <a:ext cx="3889440" cy="6369120"/>
          </a:xfrm>
          <a:prstGeom prst="rect">
            <a:avLst/>
          </a:prstGeom>
          <a:ln w="0">
            <a:noFill/>
          </a:ln>
        </p:spPr>
      </p:pic>
      <p:sp>
        <p:nvSpPr>
          <p:cNvPr id="307" name="Textfeld 5"/>
          <p:cNvSpPr/>
          <p:nvPr/>
        </p:nvSpPr>
        <p:spPr>
          <a:xfrm>
            <a:off x="611280" y="6381720"/>
            <a:ext cx="87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-70920" y="97920"/>
            <a:ext cx="6670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orbel"/>
                <a:ea typeface="Calibri"/>
              </a:rPr>
              <a:t>Copyright by QualiRom</a:t>
            </a:r>
            <a:r>
              <a:rPr b="0" lang="sk-SK" sz="1100" spc="-1" strike="noStrike">
                <a:solidFill>
                  <a:srgbClr val="000000"/>
                </a:solidFill>
                <a:latin typeface="Corbel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Corbel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Corbel"/>
                <a:ea typeface="Calibri"/>
              </a:rPr>
              <a:t>Moje spoločenstvo</a:t>
            </a:r>
            <a:r>
              <a:rPr b="0" lang="sk-SK" sz="1100" spc="-1" strike="noStrike">
                <a:solidFill>
                  <a:srgbClr val="000000"/>
                </a:solidFill>
                <a:latin typeface="Corbel"/>
                <a:ea typeface="Calibri"/>
              </a:rPr>
              <a:t>	</a:t>
            </a:r>
            <a:r>
              <a:rPr b="0" lang="de-AT" sz="1100" spc="-1" strike="noStrike">
                <a:solidFill>
                  <a:srgbClr val="000000"/>
                </a:solidFill>
                <a:latin typeface="Corbel"/>
                <a:ea typeface="Calibri"/>
              </a:rPr>
              <a:t>East-Sl</a:t>
            </a:r>
            <a:r>
              <a:rPr b="0" lang="sk-SK" sz="1100" spc="-1" strike="noStrike">
                <a:solidFill>
                  <a:srgbClr val="000000"/>
                </a:solidFill>
                <a:latin typeface="Corbel"/>
                <a:ea typeface="Calibri"/>
              </a:rPr>
              <a:t>ovak_secondary_sk_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5:06:31Z</dcterms:created>
  <dc:creator>Gymnázium</dc:creator>
  <dc:description/>
  <dc:language>en-US</dc:language>
  <cp:lastModifiedBy>Administrator</cp:lastModifiedBy>
  <dcterms:modified xsi:type="dcterms:W3CDTF">2013-02-25T13:52:00Z</dcterms:modified>
  <cp:revision>3</cp:revision>
  <dc:subject/>
  <dc:title>          Tu           sľal          ko?</dc:title>
</cp:coreProperties>
</file>