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1B0-C2B4-4117-A0E3-36CD84DC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DE0-94F4-4A28-AC4D-58136849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28D-596D-4739-BF38-2AE87430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5D9-4BAA-47F1-957B-42259BEC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2162-1868-434A-8C5E-CF4AC51B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10CD-7D88-4070-B278-88495BFD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E9DE-DEB9-41C9-9F0B-8E35DBA2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EE9E-EE80-4800-845A-B8A82003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1F90-6129-4041-919D-D7DDC777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C202-B0A9-4994-B0F1-E7B27D00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BBD3-CA11-4531-8B38-D6A78ADD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FBF-42A5-433D-8A35-E60B9BA8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9C81-60F5-4AD9-AC87-F193F7E2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10AB-22B6-4D29-A1B5-6E86577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7E88-D99B-4064-BD17-D251DC04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F9C3-9653-4DAD-8F7C-6DE3B232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8C39-E7BC-4F48-9B2E-7026520C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312C-9943-4C20-A097-2B891001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3A10-DBE7-47B3-AA21-D1B5D6FA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3501-B4F7-43C5-8DD5-D97FB03B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94C5-D2BB-4086-BDDF-1A4DFF1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A740-9313-4539-8E48-BDA9CD97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A24-9708-4AFC-8B46-E35B7DE8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A8E1-2AE7-425D-AA16-5597B247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5D9E-111F-43FD-B52C-3097AA22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63ED-6FA0-4FF2-BEFD-A27275D6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EA0A-B59E-4CC3-AEE7-A752193E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E826-078E-4388-8249-6A874F46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232E-8320-4DB6-AA30-7545D9FE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03A7C-063B-4BB3-BF27-814A3AD1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41E1-87E8-4673-AE32-69AC8B0F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9F36-BC56-4886-A333-E8194E4C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1F24F-3CDD-4611-A283-348F128F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32C-1049-4CEE-8DF7-BA1AFC8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F1BE-7261-422B-90AD-10D22BB0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19ACC-8486-4C75-B467-AA395FD7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95EE-D3D0-4CEC-ABC6-7D873963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8D1C9-A779-4A23-B879-686FA4B7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B6C1B-5F61-4E18-9E98-F20582F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E043-C7C4-4771-9BC6-51DEDEB0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64D9E-9287-4E66-B33D-BC2D5445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C691-9984-40D0-BA20-7ABB3913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AC98F-7448-4FE1-A566-F2F12352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66418-810F-489D-BAA0-8C4A9AA8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518-EE07-41ED-B419-9CD68236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3C54-C0D6-46C1-BF1F-2B71FB73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66EB0-5A1C-4337-BB26-DC7F4B9C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05D96-6B6D-446F-9EBE-96A4BBC7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3BBA-CDDD-40D9-99CD-13D0A020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9BB7-D854-475C-84B6-8AEBA08E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B2BAD-58D2-46C3-ACE5-48B6B66B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E1684-6FD3-4721-BCFC-84E67AE5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C616-08DD-4787-802B-C375EEE4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FF4A-A1EE-4A23-92B9-487C8D43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0DB1C-5F2F-448D-A03A-FBFC24E6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AE6-F1B7-4D35-A988-ED526D01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3C267-1BDD-49F9-8BED-6B49E7EA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35FC1-049F-4368-BA22-D0F211CC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34D8E-7A01-4DB7-881E-8309B360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67AF1-4485-4707-8F39-6DA22E5D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62E5D-3DE9-4F43-8404-37B67A3D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14C9-9D46-4AC0-AA74-E5EB2D26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7079B-6FCD-4F99-ADEA-E58FD339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C956B-CA59-4FAC-B12B-BE71DF35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2066C-FCF1-4716-99B3-2C93F9D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D4147-E2A2-4585-8783-F7272BEA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026-FC52-4765-893E-BBD1030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1D461-63B2-4850-A2E3-73C3944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39D15-CB0E-4AF1-B63B-00574B37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79A3C-9972-4990-8BE3-F80608AF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CAEB1-4D86-4DE1-9420-9CFEAAA6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31A96-7816-40EF-96CB-5B56FA4A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C7E42-9693-4D3F-823A-9675D6F9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E92AB-98FD-4D69-BA7E-2FF5633A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7A395-EB14-43CA-B38A-EE58C38E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408DE-8F70-4033-852B-AB5FDB01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4DED3-5A06-4CC2-A685-89E70C2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DB8-5178-485B-A351-A74640F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BDE89-DF1E-4470-8D25-E537EF57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B101C-1539-46C4-B2DB-43EDE201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7BEE9-D286-498F-9D1B-9661CE74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4EF95-3E09-4F74-903C-7389DC39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71E97-02F9-4A90-B6A0-E8833D50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46B-DA6B-446F-9501-231E4A0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ĺžni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ĺžni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ĺžni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ĺžni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ĺžni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ĺžni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ĺžni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ĺžni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ĺžni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8021-4E8A-47CE-89B8-CDF1AAA9F588}" type="datetime">
              <a:rPr b="0" lang="sk-SK" sz="1100" spc="-1" strike="noStrike">
                <a:solidFill>
                  <a:srgbClr val="d6ecff"/>
                </a:solidFill>
                <a:latin typeface="Corbel"/>
              </a:rPr>
              <a:t>30.07.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Corbel"/>
              </a:rPr>
              <a:t>Copyright by Qualirom               Ronskeremesla a povolania      a1_east_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A684-34B6-4D84-B069-4C5A15D238CB}" type="slidenum">
              <a:rPr b="0" lang="sk-SK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ĺžni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ĺžni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ĺžni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ĺžni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ĺžni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ĺžni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ĺžni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ĺžni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ĺžni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1E95-1235-4277-93CF-E74A370B5D93}" type="datetime">
              <a:rPr b="0" lang="sk-SK" sz="1100" spc="-1" strike="noStrike">
                <a:solidFill>
                  <a:srgbClr val="d6ecff"/>
                </a:solidFill>
                <a:latin typeface="Corbel"/>
              </a:rPr>
              <a:t>30.07.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Corbel"/>
              </a:rPr>
              <a:t>Copyright by Qualirom               Ronskeremesla a povolania      a1_east_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E767-2F17-453B-801F-43FEE6CAAADC}" type="slidenum">
              <a:rPr b="0" lang="sk-SK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ĺžni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ĺžni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ĺžni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ĺžni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ĺžni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ĺžni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ĺžni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ĺžni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ľná forma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ľná forma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ľná forma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ľná forma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ľná forma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ľná forma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ľná forma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ľná forma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ľná forma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ľná forma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ľná forma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ľná forma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ľná forma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ľná forma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ľná forma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ĺžni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ĺžni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ĺžni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ĺžni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ĺžni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ĺžni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CB7F-4CB3-4547-8A88-76AC51700E67}" type="datetime">
              <a:rPr b="0" lang="sk-SK" sz="1100" spc="-1" strike="noStrike">
                <a:solidFill>
                  <a:srgbClr val="d6ecff"/>
                </a:solidFill>
                <a:latin typeface="Corbel"/>
              </a:rPr>
              <a:t>30.07.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Corbel"/>
              </a:rPr>
              <a:t>Copyright by Qualirom               Ronskeremesla a povolania      a1_east_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D84F-9A68-4912-BCA3-A3041A91ADBC}" type="slidenum">
              <a:rPr b="0" lang="sk-SK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7211-204F-4BE8-9845-E0A7F6F53CDD}" type="datetime">
              <a:rPr b="0" lang="sk-SK" sz="1100" spc="-1" strike="noStrike">
                <a:solidFill>
                  <a:srgbClr val="d6ecff"/>
                </a:solidFill>
                <a:latin typeface="Corbel"/>
              </a:rPr>
              <a:t>30.07.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Corbel"/>
              </a:rPr>
              <a:t>Copyright by Qualirom               Ronskeremesla a povolania      a1_east_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FBF0-3B4A-4FCF-B00B-521378AE7AAE}" type="slidenum">
              <a:rPr b="0" lang="sk-SK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ĺžni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ĺžni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ĺžni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ĺžni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ĺžni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ĺžni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ĺžni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ĺžni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ĺžni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ĺžni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C9A4-0952-437A-AE18-37DAD462A1D8}" type="datetime">
              <a:rPr b="0" lang="sk-SK" sz="1100" spc="-1" strike="noStrike">
                <a:solidFill>
                  <a:srgbClr val="d6ecff"/>
                </a:solidFill>
                <a:latin typeface="Corbel"/>
              </a:rPr>
              <a:t>30.07.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Corbel"/>
              </a:rPr>
              <a:t>Copyright by Qualirom               Ronskeremesla a povolania      a1_east_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9A8F-55CE-4AF7-BDF5-C08964738F00}" type="slidenum">
              <a:rPr b="0" lang="sk-SK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EA13-CFCE-4AEF-AF96-69D6D5B7A3F8}" type="datetime">
              <a:rPr b="0" lang="sk-SK" sz="1100" spc="-1" strike="noStrike">
                <a:solidFill>
                  <a:srgbClr val="d6ecff"/>
                </a:solidFill>
                <a:latin typeface="Corbel"/>
              </a:rPr>
              <a:t>30.07.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Corbel"/>
              </a:rPr>
              <a:t>Copyright by Qualirom               Ronskeremesla a povolania      a1_east_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80AD-E24D-4F32-BBB5-C86781A73759}" type="slidenum">
              <a:rPr b="0" lang="sk-SK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ĺžni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ĺžni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ĺžni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ĺžni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ĺžni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ĺžni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ĺžni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ĺžni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ĺžni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ĺžni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ovná spojnic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Rovná spojnica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ovná spojnica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ovná spojnica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Rovná spojnica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ovná spojnica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ovná spojnica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Rovná spojnica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ovná spojnica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ovná spojnica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D1E3-8FDC-49C8-BA9D-9E94590D6A71}" type="datetime">
              <a:rPr b="0" lang="sk-SK" sz="1100" spc="-1" strike="noStrike">
                <a:solidFill>
                  <a:srgbClr val="d6ecff"/>
                </a:solidFill>
                <a:latin typeface="Corbel"/>
              </a:rPr>
              <a:t>30.07.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Corbel"/>
              </a:rPr>
              <a:t>Copyright by Qualirom               Ronskeremesla a povolania      a1_east_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58C0-4BF9-4B71-869B-FD38541C5D37}" type="slidenum">
              <a:rPr b="0" lang="sk-SK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 u="sng">
                <a:solidFill>
                  <a:srgbClr val="c1eeff"/>
                </a:solidFill>
                <a:uFillTx/>
                <a:latin typeface="Consolas"/>
              </a:rPr>
              <a:t>Prítomný čas </a:t>
            </a:r>
            <a:br>
              <a:rPr sz="3600"/>
            </a:br>
            <a:r>
              <a:rPr b="0" lang="sk-SK" sz="3600" spc="-1" strike="noStrike">
                <a:solidFill>
                  <a:srgbClr val="c1eeff"/>
                </a:solidFill>
                <a:latin typeface="Consolas"/>
              </a:rPr>
              <a:t>             </a:t>
            </a:r>
            <a:r>
              <a:rPr b="1" lang="sk-SK" sz="3600" spc="-1" strike="noStrike">
                <a:solidFill>
                  <a:srgbClr val="c1eeff"/>
                </a:solidFill>
                <a:latin typeface="Consolas"/>
              </a:rPr>
              <a:t>jednotné číslo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Corbel"/>
              </a:rPr>
              <a:t>Me  sľom         ( ja som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Corbel"/>
              </a:rPr>
              <a:t>Tu  sľal         (ty si 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Corbel"/>
              </a:rPr>
              <a:t>Jov  / Joj hi /hin        ( on, ona je )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Fußzeilenplatzhalt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Corbel"/>
              </a:rPr>
              <a:t>Copyright by Qualirom               Ronskeremesla a povolania      a1_east_slovak_secondary_sk_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1eeff"/>
                </a:solidFill>
                <a:latin typeface="Consolas"/>
              </a:rPr>
              <a:t>               </a:t>
            </a:r>
            <a:r>
              <a:rPr b="0" lang="sk-SK" sz="4000" spc="-1" strike="noStrike">
                <a:solidFill>
                  <a:srgbClr val="c1eeff"/>
                </a:solidFill>
                <a:latin typeface="Consolas"/>
              </a:rPr>
              <a:t>množné číslo   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71360" y="1571760"/>
            <a:ext cx="6686280" cy="32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Corbel"/>
              </a:rPr>
              <a:t>Amen sam     ( my sme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sk-SK" sz="3600" spc="-1" strike="noStrike">
                <a:solidFill>
                  <a:srgbClr val="ffffff"/>
                </a:solidFill>
                <a:latin typeface="Corbel"/>
              </a:rPr>
              <a:t>Tumen   san       ( vy/ ste 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Corbel"/>
              </a:rPr>
              <a:t>Jon  hine      ( oni  /ony sú 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Fußzeilenplatzhalt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Corbel"/>
              </a:rPr>
              <a:t>Copyright by Qualirom               Ronskeremesla a povolania      a1_east_slovak_secondary_sk_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7:26:41Z</dcterms:created>
  <dc:creator>Gymnázium</dc:creator>
  <dc:description/>
  <dc:language>en-US</dc:language>
  <cp:lastModifiedBy>Administrator</cp:lastModifiedBy>
  <dcterms:modified xsi:type="dcterms:W3CDTF">2013-02-25T14:17:25Z</dcterms:modified>
  <cp:revision>3</cp:revision>
  <dc:subject/>
  <dc:title>Minulý čas                    jednotné číslo </dc:title>
</cp:coreProperties>
</file>