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EFF-2D9D-4312-84E6-E95CA654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4E4-6F13-4132-83F6-8DE041F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907-B326-4AFC-90A6-71655E17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55E-5280-494A-B6CB-77ABDBB0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F24-88F0-4844-99B5-059B9035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8FB-FD32-46FD-BB6B-CCB0A38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10F-C68F-45E1-A878-3334C48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96B-1F2F-403D-8C8C-A14EB62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254-DE99-4865-8B7D-8D0C598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ABB-B631-40E5-9ED5-4B0BFF9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6FC-E665-491A-BA94-2E938F2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A8E-8A42-49B5-992D-0A3536A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0A69-BCDD-4571-9AE5-EA1E89DB630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rengero planos –mire divesa andro jekh kurk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14240" y="2286000"/>
          <a:ext cx="7815240" cy="2219400"/>
        </p:xfrm>
        <a:graphic>
          <a:graphicData uri="http://schemas.openxmlformats.org/drawingml/2006/table">
            <a:tbl>
              <a:tblPr/>
              <a:tblGrid>
                <a:gridCol w="1231920"/>
                <a:gridCol w="1646280"/>
                <a:gridCol w="1646280"/>
                <a:gridCol w="1646280"/>
                <a:gridCol w="16444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ďiv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(jekh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(duj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(trin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(štar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t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por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lik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tork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trarďi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trarďi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rom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d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ňi real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vartk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šču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ciko čh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44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š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sombat the kurko naphirav pes the sikhľol sam khe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98989"/>
                </a:solidFill>
                <a:latin typeface="Calibri"/>
              </a:rPr>
              <a:t>V sobotu a nedeľu nechodíme do školy sme d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0:49:18Z</dcterms:created>
  <dc:creator>Gymnázium</dc:creator>
  <dc:description/>
  <dc:language>en-US</dc:language>
  <cp:lastModifiedBy>Administrator</cp:lastModifiedBy>
  <dcterms:modified xsi:type="dcterms:W3CDTF">2013-02-25T14:25:19Z</dcterms:modified>
  <cp:revision>4</cp:revision>
  <dc:subject/>
  <dc:title>Orengero planos </dc:title>
</cp:coreProperties>
</file>