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EC5C-30D9-472A-95EC-11FB3F6D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9077-B162-4E2E-AF21-F19EF4A1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5B8E-3075-41B9-9C63-974C4A15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25D2-A607-4DFF-8B3A-508986CF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3842-64F8-4F79-87DC-E8847F5E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65E3-6F3B-41F3-ADF6-BB97492D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554B-49A0-4000-8802-910B6E81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1E48-D35A-4F55-8B9C-719992DC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7C43-72C7-45E1-A559-D5D4068B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8E5F-615A-4245-B3CD-A2F5C1DF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9D78-F338-4DF2-9E57-99EACF91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A58F-4F69-49A5-8189-D6BE9808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1AF6-5F66-483B-9880-F3E03BE0E595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764640"/>
            <a:ext cx="81471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Orengero plan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14240" y="2286000"/>
          <a:ext cx="7815240" cy="2219400"/>
        </p:xfrm>
        <a:graphic>
          <a:graphicData uri="http://schemas.openxmlformats.org/drawingml/2006/table">
            <a:tbl>
              <a:tblPr/>
              <a:tblGrid>
                <a:gridCol w="1231920"/>
                <a:gridCol w="1646280"/>
                <a:gridCol w="1646280"/>
                <a:gridCol w="1646280"/>
                <a:gridCol w="16444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ďive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 (jekhto or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 (dujto or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 (trinto or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. (štarto or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tv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vačiko čh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por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glikaňi čh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tork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itrarďip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itrarďip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romaňi čh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ograf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d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vačiko čh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jolog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t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aňi reali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vartk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z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vačiko čh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sto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ščuv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aňi čh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m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vaciko čhib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43" name="Rectangle 44"/>
          <p:cNvSpPr/>
          <p:nvPr/>
        </p:nvSpPr>
        <p:spPr>
          <a:xfrm>
            <a:off x="2051640" y="97920"/>
            <a:ext cx="5040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Copyright by QualiRom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k-SK" sz="1100" spc="-1" strike="noStrike">
                <a:solidFill>
                  <a:srgbClr val="000000"/>
                </a:solidFill>
                <a:latin typeface="Arial"/>
                <a:ea typeface="Calibri"/>
              </a:rPr>
              <a:t>V 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š</a:t>
            </a:r>
            <a:r>
              <a:rPr b="0" lang="sk-SK" sz="1100" spc="-1" strike="noStrike">
                <a:solidFill>
                  <a:srgbClr val="000000"/>
                </a:solidFill>
                <a:latin typeface="Arial"/>
                <a:ea typeface="Calibri"/>
              </a:rPr>
              <a:t>kole</a:t>
            </a:r>
            <a:r>
              <a:rPr b="0" lang="sk-SK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sk-SK" sz="1100" spc="-1" strike="noStrike">
                <a:solidFill>
                  <a:srgbClr val="000000"/>
                </a:solidFill>
                <a:latin typeface="Arial"/>
                <a:ea typeface="Calibri"/>
              </a:rPr>
              <a:t>a1_east-slovak_secondary_sk_0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Pro sombat the kurko naphirav pes the sikhľol sam khe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898989"/>
                </a:solidFill>
                <a:latin typeface="Calibri"/>
              </a:rPr>
              <a:t>V sobotu a nedeľu nechodíme do školy sme d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2051640" y="97920"/>
            <a:ext cx="5040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Copyright by QualiRom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k-SK" sz="1100" spc="-1" strike="noStrike">
                <a:solidFill>
                  <a:srgbClr val="000000"/>
                </a:solidFill>
                <a:latin typeface="Arial"/>
                <a:ea typeface="Calibri"/>
              </a:rPr>
              <a:t>V 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š</a:t>
            </a:r>
            <a:r>
              <a:rPr b="0" lang="sk-SK" sz="1100" spc="-1" strike="noStrike">
                <a:solidFill>
                  <a:srgbClr val="000000"/>
                </a:solidFill>
                <a:latin typeface="Arial"/>
                <a:ea typeface="Calibri"/>
              </a:rPr>
              <a:t>kole</a:t>
            </a:r>
            <a:r>
              <a:rPr b="0" lang="sk-SK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sk-SK" sz="1100" spc="-1" strike="noStrike">
                <a:solidFill>
                  <a:srgbClr val="000000"/>
                </a:solidFill>
                <a:latin typeface="Arial"/>
                <a:ea typeface="Calibri"/>
              </a:rPr>
              <a:t>a1_east-slovak_secondary_sk_0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20:49:18Z</dcterms:created>
  <dc:creator>Gymnázium</dc:creator>
  <dc:description/>
  <dc:language>en-US</dc:language>
  <cp:lastModifiedBy>Administrator</cp:lastModifiedBy>
  <dcterms:modified xsi:type="dcterms:W3CDTF">2013-02-25T14:25:04Z</dcterms:modified>
  <cp:revision>3</cp:revision>
  <dc:subject/>
  <dc:title>Orengero planos </dc:title>
</cp:coreProperties>
</file>