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CFB-5F26-43CD-BDA0-0BBEF381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450-FE60-4C90-AAE5-33B4F2BB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2C4-2C22-4CBF-9A8F-B6C302FA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1E9-FD9B-4DFD-8C13-78F8026F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9CC-2947-495E-9371-825BC5AB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BA0-AFDD-4F55-B76C-CD02C48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B9A-4A5A-47D0-9313-BF7C45CB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F2C-32A6-49B2-8924-A3858F66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AA2-BD06-4495-982A-088669CC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97F-C551-4AAD-AF21-D88C3538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7CF-99DD-4295-B02A-C98E877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045-9604-451D-A1CF-E7347F65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771F-6598-412E-B991-5BE0C4C7111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44696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AROSKERE ČOŇ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3929040"/>
            <a:ext cx="6400800" cy="17524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5b3d7"/>
                </a:solidFill>
                <a:latin typeface="Calibri"/>
              </a:rPr>
              <a:t>O MAR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5b3d7"/>
                </a:solidFill>
                <a:latin typeface="Calibri"/>
              </a:rPr>
              <a:t>O   APRILIS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5b3d7"/>
                </a:solidFill>
                <a:latin typeface="Calibri"/>
              </a:rPr>
              <a:t>O    MAJ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ok 3" descr=""/>
          <p:cNvPicPr/>
          <p:nvPr/>
        </p:nvPicPr>
        <p:blipFill>
          <a:blip r:embed="rId1"/>
          <a:stretch/>
        </p:blipFill>
        <p:spPr>
          <a:xfrm>
            <a:off x="2857680" y="2071800"/>
            <a:ext cx="2111040" cy="1579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0" y="6405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32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ŇILAJUTNE ČOŇ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JU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JUL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AUGU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brázok 3" descr=""/>
          <p:cNvPicPr/>
          <p:nvPr/>
        </p:nvPicPr>
        <p:blipFill>
          <a:blip r:embed="rId1"/>
          <a:stretch/>
        </p:blipFill>
        <p:spPr>
          <a:xfrm>
            <a:off x="3000240" y="1857240"/>
            <a:ext cx="2465640" cy="1851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0" y="6313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ESOSKERE ČOŇ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SEPTEMB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   OKTO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NOV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ok 3" descr=""/>
          <p:cNvPicPr/>
          <p:nvPr/>
        </p:nvPicPr>
        <p:blipFill>
          <a:blip r:embed="rId1"/>
          <a:stretch/>
        </p:blipFill>
        <p:spPr>
          <a:xfrm>
            <a:off x="3286080" y="2071800"/>
            <a:ext cx="2465280" cy="1850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0" y="6208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EVENDUTNE ČOŇ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DEC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NOV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      JANU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6500880" cy="2500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64850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51:14Z</dcterms:created>
  <dc:creator>Gymnázium</dc:creator>
  <dc:description/>
  <dc:language>en-US</dc:language>
  <cp:lastModifiedBy>Administrator</cp:lastModifiedBy>
  <dcterms:modified xsi:type="dcterms:W3CDTF">2013-02-26T15:00:01Z</dcterms:modified>
  <cp:revision>3</cp:revision>
  <dc:subject/>
  <dc:title>JAROSKERE ČOŇA</dc:title>
</cp:coreProperties>
</file>