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F5E5-1DB2-4F08-ABB3-3274225E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4A29-22BF-4FAC-99B8-9479CF3D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7DA5-25E3-4EAB-BFB2-7A7BFD4F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95FB-CA08-4167-8710-C660890C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8A4A-596A-4C59-8C68-FD886AF0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B558-73DC-4F73-AF4B-1DD99D0C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4060-2C11-4870-B81D-D1D08E70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64A1-91EB-40F9-88CB-B843ED77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D5B1-4836-447B-B3F5-FBDBACE9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7D27-4466-48FF-96CD-5066799F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6A11-EDE9-4B92-9007-894B2653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8335-AD4B-490F-BDC8-26B70E40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E441-B3BD-4AA3-8075-7B6AAE08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21A2-2967-41E0-B13A-FE1CFA11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FF9C-A972-4F70-B1C3-FEEC4794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3F3C-FEFF-4DF9-B936-CBAE64A6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6DB3-11C3-40FD-A2A6-4B5FC601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CF93C6-ADBE-4F4F-94BB-EB681CA4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B4686F-C365-482C-96CE-C9E8861D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7CB9F-620D-4FF5-918C-8D5BCB89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EB3102-F771-45DD-B14B-6F2480C5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9E8BD8-87FF-45A2-831F-1F1D4310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C701-29C6-49F4-9485-E48BB9B5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58E08E-8282-477E-A779-80B50B37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83389-48B2-4CF4-8B80-E92FD34C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58FB2-F0B6-4E4A-A7E7-3265CEAB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2DC0E1-0C0E-46A3-A97F-0D8EDBA4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6D0BF2-9CBE-40B8-92F6-CEDB589C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D9CFF5-8251-4190-ABEE-90288A61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EE415A-5F68-440D-B6D9-629115B9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887FC-38E9-429A-A619-AB922A08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F8CB6-D1B7-4BBE-86A4-3177D679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5E62F-4EC4-42AD-AE2E-9EE9118B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AC27-1E2D-4C77-87DC-2AD4D5BA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81148-CC65-4AF1-A2B3-360AF08A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C7858-3C06-4117-844C-84B45D79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633FE-D70B-4444-9BA7-19C1F2FA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9B06C-65AC-40B3-9DDD-F64C942E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270BE-642D-4022-BF40-5A530E7F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F513F-9C29-4F56-AEC2-6E5F7220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216E6-B68C-4BC6-8B4E-A1B420C0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E7436-0575-498D-9DA2-0BCD13B0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AA1D8-D022-446F-B0B6-6E73DDD6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CB63-DA0F-490E-A0BC-500A5FE4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0DFA-24D6-4A25-9B40-0C0CC40D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6478-A087-4B41-B714-67D99969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74F6-9376-49E8-BD75-1B28A9CA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32C5-4AF7-400A-A62D-6FAC3759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BD0F-5F53-4173-A6B4-0778080709A8}" type="slidenum">
              <a:rPr b="0" lang="sk-SK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BF11-6C67-447E-B54E-B2B715098838}" type="slidenum">
              <a:rPr b="0" lang="sk-SK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8E1C-991F-47C4-904B-FDB33A11F396}" type="slidenum">
              <a:rPr b="0" lang="sk-SK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D1A9-F184-451F-9B02-D4AAB81320CA}" type="slidenum">
              <a:rPr b="0" lang="sk-SK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5900" spc="-1" strike="noStrike">
                <a:solidFill>
                  <a:srgbClr val="000000"/>
                </a:solidFill>
                <a:latin typeface="Century Gothic"/>
              </a:rPr>
              <a:t>Inepa  andro berš</a:t>
            </a:r>
            <a:endParaRPr b="0" lang="en-US" sz="5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800" spc="-1" strike="noStrike">
              <a:solidFill>
                <a:srgbClr val="42424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e3d2d"/>
              </a:solidFill>
              <a:latin typeface="Century Gothic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7200" spc="-1" strike="noStrike">
                <a:solidFill>
                  <a:srgbClr val="3e3d2d"/>
                </a:solidFill>
                <a:latin typeface="Century Gothic"/>
              </a:rPr>
              <a:t>Neve inepa </a:t>
            </a:r>
            <a:endParaRPr b="0" lang="en-US" sz="7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000" spc="-1" strike="noStrike">
                <a:solidFill>
                  <a:srgbClr val="3e3d2d"/>
                </a:solidFill>
                <a:latin typeface="Century Gothic"/>
              </a:rPr>
              <a:t>Ďives pal sikhľarde</a:t>
            </a:r>
            <a:endParaRPr b="0" lang="en-US" sz="6000" spc="-1" strike="noStrike">
              <a:solidFill>
                <a:srgbClr val="3e3d2d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000" spc="-1" strike="noStrike">
                <a:solidFill>
                  <a:srgbClr val="3e3d2d"/>
                </a:solidFill>
                <a:latin typeface="Century Gothic"/>
              </a:rPr>
              <a:t>28.3.</a:t>
            </a:r>
            <a:endParaRPr b="0" lang="en-US" sz="6000" spc="-1" strike="noStrike">
              <a:solidFill>
                <a:srgbClr val="3e3d2d"/>
              </a:solidFill>
              <a:latin typeface="Century Gothic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9" name="Picture 2" descr="http://www.zszupkov.sk/wp-content/gallery/clanky/den_ucitelov_2.jpg"/>
          <p:cNvPicPr/>
          <p:nvPr/>
        </p:nvPicPr>
        <p:blipFill>
          <a:blip r:embed="rId1"/>
          <a:stretch/>
        </p:blipFill>
        <p:spPr>
          <a:xfrm>
            <a:off x="4500720" y="1125360"/>
            <a:ext cx="39240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k-SK" sz="4400" spc="-1" strike="noStrike">
                <a:solidFill>
                  <a:srgbClr val="3e3d2d"/>
                </a:solidFill>
                <a:latin typeface="Century Gothic"/>
              </a:rPr>
              <a:t>Ďives</a:t>
            </a:r>
            <a:r>
              <a:rPr b="0" lang="sk-SK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k-SK" sz="4000" spc="-1" strike="noStrike">
                <a:solidFill>
                  <a:srgbClr val="3e3d2d"/>
                </a:solidFill>
                <a:latin typeface="Century Gothic"/>
              </a:rPr>
              <a:t>pal dada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400" spc="-1" strike="noStrike">
                <a:solidFill>
                  <a:srgbClr val="3e3d2d"/>
                </a:solidFill>
                <a:latin typeface="Century Gothic"/>
              </a:rPr>
              <a:t>16.6. </a:t>
            </a:r>
            <a:endParaRPr b="0" lang="en-US" sz="5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2" name="Picture 2" descr="http://www.news.sk/public/images_art/2012/6/843/4751856.jpg"/>
          <p:cNvPicPr/>
          <p:nvPr/>
        </p:nvPicPr>
        <p:blipFill>
          <a:blip r:embed="rId1"/>
          <a:stretch/>
        </p:blipFill>
        <p:spPr>
          <a:xfrm>
            <a:off x="3419640" y="2900520"/>
            <a:ext cx="464652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94c600"/>
                </a:solidFill>
                <a:latin typeface="Century Gothic"/>
              </a:rPr>
              <a:t>Ďivel pal famiľija  </a:t>
            </a:r>
            <a:br>
              <a:rPr sz="3600"/>
            </a:br>
            <a:r>
              <a:rPr b="0" lang="sk-SK" sz="3600" spc="-1" strike="noStrike">
                <a:solidFill>
                  <a:srgbClr val="94c600"/>
                </a:solidFill>
                <a:latin typeface="Century Gothic"/>
              </a:rPr>
              <a:t>15.5.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1042560" y="2323800"/>
            <a:ext cx="6777000" cy="35082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http://sarah17.oldiblog.com/sites/images/articles/394/article_394761.gif"/>
          <p:cNvPicPr/>
          <p:nvPr/>
        </p:nvPicPr>
        <p:blipFill>
          <a:blip r:embed="rId2"/>
          <a:stretch/>
        </p:blipFill>
        <p:spPr>
          <a:xfrm>
            <a:off x="2914560" y="1914480"/>
            <a:ext cx="36259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94c600"/>
                </a:solidFill>
                <a:latin typeface="Century Gothic"/>
              </a:rPr>
              <a:t>Inepos pal  efta dukado Maria </a:t>
            </a:r>
            <a:br>
              <a:rPr sz="3600"/>
            </a:br>
            <a:r>
              <a:rPr b="1" i="1" lang="sk-SK" sz="3600" spc="-1" strike="noStrike">
                <a:solidFill>
                  <a:srgbClr val="94c600"/>
                </a:solidFill>
                <a:latin typeface="Century Gothic"/>
              </a:rPr>
              <a:t>- arakľi pal Slovačiko them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3e3d2d"/>
                </a:solidFill>
                <a:latin typeface="Century Gothic"/>
              </a:rPr>
              <a:t>15.9.</a:t>
            </a:r>
            <a:endParaRPr b="0" lang="en-US" sz="4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8" name="Picture 2" descr="http://www.farnost-rajecketeplice.sk/svati/September/Sedembolestna_Panna_Maria.JPG"/>
          <p:cNvPicPr/>
          <p:nvPr/>
        </p:nvPicPr>
        <p:blipFill>
          <a:blip r:embed="rId1"/>
          <a:stretch/>
        </p:blipFill>
        <p:spPr>
          <a:xfrm>
            <a:off x="2987640" y="2421000"/>
            <a:ext cx="233532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k-SK" sz="3600" spc="-1" strike="noStrike">
                <a:solidFill>
                  <a:srgbClr val="94c600"/>
                </a:solidFill>
                <a:latin typeface="Century Gothic"/>
              </a:rPr>
              <a:t>Mulatčagos pal korkoripen  le Slovačiko them 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3e3d2d"/>
                </a:solidFill>
                <a:latin typeface="Century Gothic"/>
              </a:rPr>
              <a:t>1.1. </a:t>
            </a:r>
            <a:endParaRPr b="0" lang="en-US" sz="4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11" name="Picture 2" descr="http://www.kolky.sk/files/uploaded/.%5b1000-1000%5d.znak_sr_1.gif"/>
          <p:cNvPicPr/>
          <p:nvPr/>
        </p:nvPicPr>
        <p:blipFill>
          <a:blip r:embed="rId1"/>
          <a:stretch/>
        </p:blipFill>
        <p:spPr>
          <a:xfrm>
            <a:off x="2973240" y="2349360"/>
            <a:ext cx="282924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042560" y="2323800"/>
            <a:ext cx="677700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3e3d2d"/>
                </a:solidFill>
                <a:latin typeface="Century Gothic"/>
              </a:rPr>
              <a:t>Phenas amege so mek pridžaras</a:t>
            </a:r>
            <a:endParaRPr b="0" lang="en-US" sz="6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6000" spc="-1" strike="noStrike">
                <a:solidFill>
                  <a:srgbClr val="fec67a"/>
                </a:solidFill>
                <a:latin typeface="Century Gothic"/>
              </a:rPr>
              <a:t>Tiro uľaľivbnaskero ďives</a:t>
            </a:r>
            <a:endParaRPr b="0" lang="en-US" sz="6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sk-SK" sz="2400" spc="-1" strike="noStrike">
                <a:solidFill>
                  <a:srgbClr val="c00000"/>
                </a:solidFill>
                <a:latin typeface="Century Gothic"/>
              </a:rPr>
              <a:t>Tvoje narodenin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1" name="Obrázok 3" descr=""/>
          <p:cNvPicPr/>
          <p:nvPr/>
        </p:nvPicPr>
        <p:blipFill>
          <a:blip r:embed="rId1"/>
          <a:stretch/>
        </p:blipFill>
        <p:spPr>
          <a:xfrm>
            <a:off x="4572000" y="1268280"/>
            <a:ext cx="23716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67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e3d2d"/>
                </a:solidFill>
                <a:latin typeface="Century Gothic"/>
              </a:rPr>
              <a:t>januari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7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7480">
              <a:lnSpc>
                <a:spcPct val="9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sk-SK" sz="20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sk-SK" sz="20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sk-SK" sz="20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sk-SK" sz="6100" spc="-1" strike="noStrike">
                <a:solidFill>
                  <a:srgbClr val="d0ff44"/>
                </a:solidFill>
                <a:latin typeface="Century Gothic"/>
              </a:rPr>
              <a:t>Nevo berš</a:t>
            </a:r>
            <a:endParaRPr b="0" lang="en-US" sz="61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7480">
              <a:lnSpc>
                <a:spcPct val="9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6100" spc="-1" strike="noStrike">
                <a:solidFill>
                  <a:srgbClr val="d0ff44"/>
                </a:solidFill>
                <a:latin typeface="Century Gothic"/>
              </a:rPr>
              <a:t>Nový rok</a:t>
            </a:r>
            <a:endParaRPr b="0" lang="en-US" sz="61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4" name="Obrázok 5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4434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3e3d2d"/>
                </a:solidFill>
                <a:latin typeface="Century Gothic"/>
              </a:rPr>
              <a:t>O marcos  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3e3d2d"/>
                </a:solidFill>
                <a:latin typeface="Century Gothic"/>
              </a:rPr>
              <a:t>  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6800" spc="-1" strike="noStrike">
                <a:solidFill>
                  <a:srgbClr val="92d050"/>
                </a:solidFill>
                <a:latin typeface="Century Gothic"/>
              </a:rPr>
              <a:t>         </a:t>
            </a:r>
            <a:r>
              <a:rPr b="1" lang="sk-SK" sz="6800" spc="-1" strike="noStrike">
                <a:solidFill>
                  <a:srgbClr val="92d050"/>
                </a:solidFill>
                <a:latin typeface="Century Gothic"/>
              </a:rPr>
              <a:t>e Patraďi</a:t>
            </a:r>
            <a:endParaRPr b="0" lang="en-US" sz="6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6800" spc="-1" strike="noStrike">
                <a:solidFill>
                  <a:srgbClr val="92d050"/>
                </a:solidFill>
                <a:latin typeface="Century Gothic"/>
              </a:rPr>
              <a:t>Veľká noc</a:t>
            </a:r>
            <a:endParaRPr b="0" lang="en-US" sz="6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7" name="Obrázok 3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2342880" cy="1952640"/>
          </a:xfrm>
          <a:prstGeom prst="rect">
            <a:avLst/>
          </a:prstGeom>
          <a:ln w="0">
            <a:noFill/>
          </a:ln>
        </p:spPr>
      </p:pic>
      <p:pic>
        <p:nvPicPr>
          <p:cNvPr id="348" name="Obrázok 4" descr=""/>
          <p:cNvPicPr/>
          <p:nvPr/>
        </p:nvPicPr>
        <p:blipFill>
          <a:blip r:embed="rId2"/>
          <a:stretch/>
        </p:blipFill>
        <p:spPr>
          <a:xfrm>
            <a:off x="5292720" y="981000"/>
            <a:ext cx="26766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3e3d2d"/>
                </a:solidFill>
                <a:latin typeface="Century Gothic"/>
              </a:rPr>
              <a:t>Apriľis </a:t>
            </a:r>
            <a:endParaRPr b="0" lang="en-US" sz="1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75"/>
              </a:spcBef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3e3d2d"/>
                </a:solidFill>
                <a:latin typeface="Century Gothic"/>
              </a:rPr>
              <a:t>Maškarthemutno romano ďives ( 8. apriľis)</a:t>
            </a:r>
            <a:endParaRPr b="0" lang="en-US" sz="2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3e3d2d"/>
                </a:solidFill>
                <a:latin typeface="Century Gothic"/>
              </a:rPr>
              <a:t>Medzinárodný deň Rómov </a:t>
            </a:r>
            <a:endParaRPr b="0" lang="en-US" sz="23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1" name="Obrázok 3" descr=""/>
          <p:cNvPicPr/>
          <p:nvPr/>
        </p:nvPicPr>
        <p:blipFill>
          <a:blip r:embed="rId1"/>
          <a:stretch/>
        </p:blipFill>
        <p:spPr>
          <a:xfrm>
            <a:off x="3348000" y="260280"/>
            <a:ext cx="35337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300" spc="-1" strike="noStrike">
                <a:solidFill>
                  <a:srgbClr val="3e3d2d"/>
                </a:solidFill>
                <a:latin typeface="Century Gothic"/>
              </a:rPr>
              <a:t>Majos  </a:t>
            </a:r>
            <a:endParaRPr b="0" lang="en-US" sz="1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300" spc="-1" strike="noStrike">
                <a:solidFill>
                  <a:srgbClr val="3e3d2d"/>
                </a:solidFill>
                <a:latin typeface="Century Gothic"/>
              </a:rPr>
              <a:t>Maškarthemutno ďives pal daja </a:t>
            </a: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300" spc="-1" strike="noStrike">
                <a:solidFill>
                  <a:srgbClr val="3e3d2d"/>
                </a:solidFill>
                <a:latin typeface="Century Gothic"/>
              </a:rPr>
              <a:t>Deň matiek</a:t>
            </a: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4" name="Obrázok 3" descr=""/>
          <p:cNvPicPr/>
          <p:nvPr/>
        </p:nvPicPr>
        <p:blipFill>
          <a:blip r:embed="rId1"/>
          <a:stretch/>
        </p:blipFill>
        <p:spPr>
          <a:xfrm>
            <a:off x="4643280" y="3932280"/>
            <a:ext cx="2505240" cy="1828800"/>
          </a:xfrm>
          <a:prstGeom prst="rect">
            <a:avLst/>
          </a:prstGeom>
          <a:ln w="0">
            <a:noFill/>
          </a:ln>
        </p:spPr>
      </p:pic>
      <p:sp>
        <p:nvSpPr>
          <p:cNvPr id="355" name="Srdce 4"/>
          <p:cNvSpPr/>
          <p:nvPr/>
        </p:nvSpPr>
        <p:spPr>
          <a:xfrm>
            <a:off x="684360" y="3392640"/>
            <a:ext cx="1152360" cy="1079280"/>
          </a:xfrm>
          <a:custGeom>
            <a:avLst/>
            <a:gdLst/>
            <a:ahLst/>
            <a:rect l="l" t="t" r="r" b="b"/>
            <a:pathLst>
              <a:path w="1152525" h="1079500">
                <a:moveTo>
                  <a:pt x="576263" y="269875"/>
                </a:moveTo>
                <a:cubicBezTo>
                  <a:pt x="816372" y="-359833"/>
                  <a:pt x="1752798" y="269875"/>
                  <a:pt x="576263" y="1079500"/>
                </a:cubicBezTo>
                <a:cubicBezTo>
                  <a:pt x="-600273" y="269875"/>
                  <a:pt x="336153" y="-359833"/>
                  <a:pt x="576263" y="269875"/>
                </a:cubicBezTo>
                <a:close/>
              </a:path>
            </a:pathLst>
          </a:custGeom>
          <a:solidFill>
            <a:srgbClr val="ff6700"/>
          </a:solidFill>
          <a:ln w="15840">
            <a:solidFill>
              <a:srgbClr val="bc4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rdce 5"/>
          <p:cNvSpPr/>
          <p:nvPr/>
        </p:nvSpPr>
        <p:spPr>
          <a:xfrm>
            <a:off x="3348000" y="3176640"/>
            <a:ext cx="863640" cy="1512720"/>
          </a:xfrm>
          <a:custGeom>
            <a:avLst/>
            <a:gdLst/>
            <a:ahLst/>
            <a:rect l="l" t="t" r="r" b="b"/>
            <a:pathLst>
              <a:path w="863600" h="1512887">
                <a:moveTo>
                  <a:pt x="431800" y="378222"/>
                </a:moveTo>
                <a:cubicBezTo>
                  <a:pt x="611717" y="-504296"/>
                  <a:pt x="1313392" y="378222"/>
                  <a:pt x="431800" y="1512887"/>
                </a:cubicBezTo>
                <a:cubicBezTo>
                  <a:pt x="-449792" y="378222"/>
                  <a:pt x="251883" y="-504296"/>
                  <a:pt x="431800" y="378222"/>
                </a:cubicBezTo>
                <a:close/>
              </a:path>
            </a:pathLst>
          </a:custGeom>
          <a:solidFill>
            <a:srgbClr val="ff6700"/>
          </a:solidFill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rdce 6"/>
          <p:cNvSpPr/>
          <p:nvPr/>
        </p:nvSpPr>
        <p:spPr>
          <a:xfrm>
            <a:off x="7356600" y="3176640"/>
            <a:ext cx="863640" cy="1295280"/>
          </a:xfrm>
          <a:custGeom>
            <a:avLst/>
            <a:gdLst/>
            <a:ahLst/>
            <a:rect l="l" t="t" r="r" b="b"/>
            <a:pathLst>
              <a:path w="863600" h="1296987">
                <a:moveTo>
                  <a:pt x="431800" y="324247"/>
                </a:moveTo>
                <a:cubicBezTo>
                  <a:pt x="611717" y="-432329"/>
                  <a:pt x="1313392" y="324247"/>
                  <a:pt x="431800" y="1296987"/>
                </a:cubicBezTo>
                <a:cubicBezTo>
                  <a:pt x="-449792" y="324247"/>
                  <a:pt x="251883" y="-432329"/>
                  <a:pt x="431800" y="324247"/>
                </a:cubicBezTo>
                <a:close/>
              </a:path>
            </a:pathLst>
          </a:custGeom>
          <a:solidFill>
            <a:srgbClr val="ff6700"/>
          </a:solidFill>
          <a:ln w="15840">
            <a:solidFill>
              <a:srgbClr val="bc4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3e3d2d"/>
                </a:solidFill>
                <a:latin typeface="Century Gothic"/>
              </a:rPr>
              <a:t>Novembro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3e3d2d"/>
                </a:solidFill>
                <a:latin typeface="Century Gothic"/>
              </a:rPr>
              <a:t>Maškarthemutno ďives  romaňikeri čhib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sk-SK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sk-SK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sk-SK" sz="22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sk-SK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k-SK" sz="2200" spc="-1" strike="noStrike">
                <a:solidFill>
                  <a:srgbClr val="3e3d2d"/>
                </a:solidFill>
                <a:latin typeface="Century Gothic"/>
              </a:rPr>
              <a:t>( 5 . Novembros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3e3d2d"/>
                </a:solidFill>
                <a:latin typeface="Century Gothic"/>
              </a:rPr>
              <a:t>Medzinárodný deň rómskeho jazyka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0" name="Obrázok 3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19051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e3d2d"/>
                </a:solidFill>
                <a:latin typeface="Century Gothic"/>
              </a:rPr>
              <a:t>Decembro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100" spc="-1" strike="noStrike">
                <a:solidFill>
                  <a:srgbClr val="3e3d2d"/>
                </a:solidFill>
                <a:latin typeface="Century Gothic"/>
              </a:rPr>
              <a:t>              </a:t>
            </a:r>
            <a:r>
              <a:rPr b="0" lang="sk-SK" sz="6100" spc="-1" strike="noStrike">
                <a:solidFill>
                  <a:srgbClr val="3e3d2d"/>
                </a:solidFill>
                <a:latin typeface="Century Gothic"/>
              </a:rPr>
              <a:t>Karačoň</a:t>
            </a:r>
            <a:endParaRPr b="0" lang="en-US" sz="6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100" spc="-1" strike="noStrike">
                <a:solidFill>
                  <a:srgbClr val="3e3d2d"/>
                </a:solidFill>
                <a:latin typeface="Century Gothic"/>
              </a:rPr>
              <a:t>Vianoce</a:t>
            </a:r>
            <a:endParaRPr b="0" lang="en-US" sz="61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3" name="Obrázok 3" descr=""/>
          <p:cNvPicPr/>
          <p:nvPr/>
        </p:nvPicPr>
        <p:blipFill>
          <a:blip r:embed="rId1"/>
          <a:stretch/>
        </p:blipFill>
        <p:spPr>
          <a:xfrm>
            <a:off x="4788000" y="429264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364" name="Obrázok 4" descr=""/>
          <p:cNvPicPr/>
          <p:nvPr/>
        </p:nvPicPr>
        <p:blipFill>
          <a:blip r:embed="rId2"/>
          <a:stretch/>
        </p:blipFill>
        <p:spPr>
          <a:xfrm>
            <a:off x="1116000" y="2349360"/>
            <a:ext cx="2162160" cy="2114640"/>
          </a:xfrm>
          <a:prstGeom prst="rect">
            <a:avLst/>
          </a:prstGeom>
          <a:ln w="0">
            <a:noFill/>
          </a:ln>
        </p:spPr>
      </p:pic>
      <p:grpSp>
        <p:nvGrpSpPr>
          <p:cNvPr id="365" name="Ovál 10"/>
          <p:cNvGrpSpPr/>
          <p:nvPr/>
        </p:nvGrpSpPr>
        <p:grpSpPr>
          <a:xfrm>
            <a:off x="469800" y="1219320"/>
            <a:ext cx="505080" cy="579240"/>
            <a:chOff x="469800" y="1219320"/>
            <a:chExt cx="505080" cy="579240"/>
          </a:xfrm>
        </p:grpSpPr>
        <p:pic>
          <p:nvPicPr>
            <p:cNvPr id="366" name="Ovál 10" descr=""/>
            <p:cNvPicPr/>
            <p:nvPr/>
          </p:nvPicPr>
          <p:blipFill>
            <a:blip r:embed="rId3"/>
            <a:stretch/>
          </p:blipFill>
          <p:spPr>
            <a:xfrm>
              <a:off x="469800" y="1219320"/>
              <a:ext cx="50508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592200" y="1332000"/>
              <a:ext cx="255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Ovál 11"/>
          <p:cNvGrpSpPr/>
          <p:nvPr/>
        </p:nvGrpSpPr>
        <p:grpSpPr>
          <a:xfrm>
            <a:off x="6729480" y="2157480"/>
            <a:ext cx="506520" cy="579240"/>
            <a:chOff x="6729480" y="2157480"/>
            <a:chExt cx="506520" cy="579240"/>
          </a:xfrm>
        </p:grpSpPr>
        <p:pic>
          <p:nvPicPr>
            <p:cNvPr id="369" name="Ovál 11" descr=""/>
            <p:cNvPicPr/>
            <p:nvPr/>
          </p:nvPicPr>
          <p:blipFill>
            <a:blip r:embed="rId4"/>
            <a:stretch/>
          </p:blipFill>
          <p:spPr>
            <a:xfrm>
              <a:off x="6729480" y="2157480"/>
              <a:ext cx="5065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6856560" y="2268360"/>
              <a:ext cx="255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Ovál 12"/>
          <p:cNvGrpSpPr/>
          <p:nvPr/>
        </p:nvGrpSpPr>
        <p:grpSpPr>
          <a:xfrm>
            <a:off x="3919680" y="1219320"/>
            <a:ext cx="512640" cy="579240"/>
            <a:chOff x="3919680" y="1219320"/>
            <a:chExt cx="512640" cy="579240"/>
          </a:xfrm>
        </p:grpSpPr>
        <p:pic>
          <p:nvPicPr>
            <p:cNvPr id="372" name="Ovál 12" descr=""/>
            <p:cNvPicPr/>
            <p:nvPr/>
          </p:nvPicPr>
          <p:blipFill>
            <a:blip r:embed="rId5"/>
            <a:stretch/>
          </p:blipFill>
          <p:spPr>
            <a:xfrm>
              <a:off x="3919680" y="1219320"/>
              <a:ext cx="5126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4048200" y="1332000"/>
              <a:ext cx="255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Ovál 13"/>
          <p:cNvGrpSpPr/>
          <p:nvPr/>
        </p:nvGrpSpPr>
        <p:grpSpPr>
          <a:xfrm>
            <a:off x="7669080" y="1798560"/>
            <a:ext cx="505080" cy="573120"/>
            <a:chOff x="7669080" y="1798560"/>
            <a:chExt cx="505080" cy="573120"/>
          </a:xfrm>
        </p:grpSpPr>
        <p:pic>
          <p:nvPicPr>
            <p:cNvPr id="375" name="Ovál 13" descr=""/>
            <p:cNvPicPr/>
            <p:nvPr/>
          </p:nvPicPr>
          <p:blipFill>
            <a:blip r:embed="rId6"/>
            <a:stretch/>
          </p:blipFill>
          <p:spPr>
            <a:xfrm>
              <a:off x="7669080" y="1798560"/>
              <a:ext cx="5050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7792920" y="1908000"/>
              <a:ext cx="255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Ovál 15"/>
          <p:cNvGrpSpPr/>
          <p:nvPr/>
        </p:nvGrpSpPr>
        <p:grpSpPr>
          <a:xfrm>
            <a:off x="6083280" y="719280"/>
            <a:ext cx="506520" cy="573120"/>
            <a:chOff x="6083280" y="719280"/>
            <a:chExt cx="506520" cy="573120"/>
          </a:xfrm>
        </p:grpSpPr>
        <p:pic>
          <p:nvPicPr>
            <p:cNvPr id="378" name="Ovál 15" descr=""/>
            <p:cNvPicPr/>
            <p:nvPr/>
          </p:nvPicPr>
          <p:blipFill>
            <a:blip r:embed="rId7"/>
            <a:stretch/>
          </p:blipFill>
          <p:spPr>
            <a:xfrm>
              <a:off x="6083280" y="719280"/>
              <a:ext cx="50652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6208560" y="828720"/>
              <a:ext cx="255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Ovál 16"/>
          <p:cNvGrpSpPr/>
          <p:nvPr/>
        </p:nvGrpSpPr>
        <p:grpSpPr>
          <a:xfrm>
            <a:off x="5005440" y="1865160"/>
            <a:ext cx="504720" cy="579600"/>
            <a:chOff x="5005440" y="1865160"/>
            <a:chExt cx="504720" cy="579600"/>
          </a:xfrm>
        </p:grpSpPr>
        <p:pic>
          <p:nvPicPr>
            <p:cNvPr id="381" name="Ovál 16" descr=""/>
            <p:cNvPicPr/>
            <p:nvPr/>
          </p:nvPicPr>
          <p:blipFill>
            <a:blip r:embed="rId8"/>
            <a:stretch/>
          </p:blipFill>
          <p:spPr>
            <a:xfrm>
              <a:off x="5005440" y="1865160"/>
              <a:ext cx="50472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29280" y="1979640"/>
              <a:ext cx="2538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Ovál 18"/>
          <p:cNvGrpSpPr/>
          <p:nvPr/>
        </p:nvGrpSpPr>
        <p:grpSpPr>
          <a:xfrm>
            <a:off x="2987640" y="5181480"/>
            <a:ext cx="504720" cy="579600"/>
            <a:chOff x="2987640" y="5181480"/>
            <a:chExt cx="504720" cy="579600"/>
          </a:xfrm>
        </p:grpSpPr>
        <p:pic>
          <p:nvPicPr>
            <p:cNvPr id="384" name="Ovál 18" descr=""/>
            <p:cNvPicPr/>
            <p:nvPr/>
          </p:nvPicPr>
          <p:blipFill>
            <a:blip r:embed="rId9"/>
            <a:stretch/>
          </p:blipFill>
          <p:spPr>
            <a:xfrm>
              <a:off x="2987640" y="5181480"/>
              <a:ext cx="50472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3111480" y="5292720"/>
              <a:ext cx="255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Ovál 19"/>
          <p:cNvGrpSpPr/>
          <p:nvPr/>
        </p:nvGrpSpPr>
        <p:grpSpPr>
          <a:xfrm>
            <a:off x="8028000" y="2951280"/>
            <a:ext cx="506520" cy="577800"/>
            <a:chOff x="8028000" y="2951280"/>
            <a:chExt cx="506520" cy="577800"/>
          </a:xfrm>
        </p:grpSpPr>
        <p:pic>
          <p:nvPicPr>
            <p:cNvPr id="387" name="Ovál 19" descr=""/>
            <p:cNvPicPr/>
            <p:nvPr/>
          </p:nvPicPr>
          <p:blipFill>
            <a:blip r:embed="rId10"/>
            <a:stretch/>
          </p:blipFill>
          <p:spPr>
            <a:xfrm>
              <a:off x="8028000" y="2951280"/>
              <a:ext cx="50652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8153280" y="3060720"/>
              <a:ext cx="254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Ovál 20"/>
          <p:cNvGrpSpPr/>
          <p:nvPr/>
        </p:nvGrpSpPr>
        <p:grpSpPr>
          <a:xfrm>
            <a:off x="3346560" y="2590920"/>
            <a:ext cx="506160" cy="573120"/>
            <a:chOff x="3346560" y="2590920"/>
            <a:chExt cx="506160" cy="573120"/>
          </a:xfrm>
        </p:grpSpPr>
        <p:pic>
          <p:nvPicPr>
            <p:cNvPr id="390" name="Ovál 20" descr=""/>
            <p:cNvPicPr/>
            <p:nvPr/>
          </p:nvPicPr>
          <p:blipFill>
            <a:blip r:embed="rId11"/>
            <a:stretch/>
          </p:blipFill>
          <p:spPr>
            <a:xfrm>
              <a:off x="3346560" y="2590920"/>
              <a:ext cx="50616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3471840" y="2700360"/>
              <a:ext cx="255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Ovál 22"/>
          <p:cNvGrpSpPr/>
          <p:nvPr/>
        </p:nvGrpSpPr>
        <p:grpSpPr>
          <a:xfrm>
            <a:off x="8028000" y="5181480"/>
            <a:ext cx="506520" cy="579600"/>
            <a:chOff x="8028000" y="5181480"/>
            <a:chExt cx="506520" cy="579600"/>
          </a:xfrm>
        </p:grpSpPr>
        <p:pic>
          <p:nvPicPr>
            <p:cNvPr id="393" name="Ovál 22" descr=""/>
            <p:cNvPicPr/>
            <p:nvPr/>
          </p:nvPicPr>
          <p:blipFill>
            <a:blip r:embed="rId12"/>
            <a:stretch/>
          </p:blipFill>
          <p:spPr>
            <a:xfrm>
              <a:off x="8028000" y="5181480"/>
              <a:ext cx="50652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8153280" y="5292720"/>
              <a:ext cx="254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22:25:36Z</dcterms:created>
  <dc:creator>Gymnázium</dc:creator>
  <dc:description/>
  <dc:language>en-US</dc:language>
  <cp:lastModifiedBy>Riaditeľ</cp:lastModifiedBy>
  <dcterms:modified xsi:type="dcterms:W3CDTF">2013-01-08T11:31:33Z</dcterms:modified>
  <cp:revision>10</cp:revision>
  <dc:subject/>
  <dc:title>Inepa  andro berš</dc:title>
</cp:coreProperties>
</file>