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59D-D053-47AA-975D-C296BC51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689-F5E7-4CA9-81B2-5EFBD3C5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6D5-EAA7-4800-928C-2D568F61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BCA-ECD4-480E-9A1E-D191AEA2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FEF-CC3F-405D-BF8B-F304B02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5ED-55C1-4A28-98B0-A69617E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8C9-A960-4388-A9F5-28A27F54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153-ADBA-46B5-8021-38B7FEAE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F32-7ECB-4144-9F9B-C44277F1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DD4-47EE-4F4F-A858-EBEB426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5990-9148-4CB6-91B1-DB9E628B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04E-711C-405B-8AE3-9D1B7C5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BAE1-D776-4AE3-A6F0-5FC9373F3C2B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7200" spc="-1" strike="noStrike">
                <a:solidFill>
                  <a:srgbClr val="000000"/>
                </a:solidFill>
                <a:latin typeface="Calibri"/>
              </a:rPr>
              <a:t>Adi ginutne mekh prindžare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jekh       dešujekh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trijanda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uj          dešuduj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štar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trin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utrin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pandž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štar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uštar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šo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pandž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upandž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efta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šov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ušov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šo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efta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efta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efta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ochto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ochto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ochto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eň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eň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eňavardeš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deš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biš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šel</a:t>
            </a:r>
            <a:br>
              <a:rPr sz="4000"/>
            </a:b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ezer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000000"/>
                </a:solidFill>
                <a:latin typeface="Calibri"/>
              </a:rPr>
              <a:t>Akana tuke sikhavav sar pes prithoven o berša, nane oda pharo </a:t>
            </a:r>
            <a:r>
              <a:rPr b="0" lang="sk-SK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sk-SK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obsahu 2" descr=""/>
          <p:cNvPicPr/>
          <p:nvPr/>
        </p:nvPicPr>
        <p:blipFill>
          <a:blip r:embed="rId1"/>
          <a:stretch/>
        </p:blipFill>
        <p:spPr>
          <a:xfrm>
            <a:off x="328680" y="1542960"/>
            <a:ext cx="8364600" cy="4589640"/>
          </a:xfrm>
          <a:prstGeom prst="rect">
            <a:avLst/>
          </a:prstGeom>
          <a:ln w="0">
            <a:noFill/>
          </a:ln>
        </p:spPr>
      </p:pic>
      <p:cxnSp>
        <p:nvCxnSpPr>
          <p:cNvPr id="48" name="Rovná spojovacia šípka 4"/>
          <p:cNvCxnSpPr/>
          <p:nvPr/>
        </p:nvCxnSpPr>
        <p:spPr>
          <a:xfrm flipH="1">
            <a:off x="998280" y="2142720"/>
            <a:ext cx="2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Rovná spojovacia šípka 6"/>
          <p:cNvCxnSpPr/>
          <p:nvPr/>
        </p:nvCxnSpPr>
        <p:spPr>
          <a:xfrm>
            <a:off x="1214280" y="2142720"/>
            <a:ext cx="192960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Rovná spojovacia šípka 8"/>
          <p:cNvCxnSpPr/>
          <p:nvPr/>
        </p:nvCxnSpPr>
        <p:spPr>
          <a:xfrm>
            <a:off x="1428840" y="2071800"/>
            <a:ext cx="228672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Rovná spojovacia šípka 10"/>
          <p:cNvCxnSpPr/>
          <p:nvPr/>
        </p:nvCxnSpPr>
        <p:spPr>
          <a:xfrm>
            <a:off x="1785960" y="1785960"/>
            <a:ext cx="929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 berš </a:t>
            </a: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sk-SK" sz="2200" spc="-1" strike="noStrike">
                <a:solidFill>
                  <a:srgbClr val="00b050"/>
                </a:solidFill>
                <a:latin typeface="Calibri"/>
              </a:rPr>
              <a:t>9</a:t>
            </a: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9</a:t>
            </a:r>
            <a:r>
              <a:rPr b="0" lang="sk-SK" sz="22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Thoveha jekheta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Jekh ezero </a:t>
            </a:r>
            <a:r>
              <a:rPr b="0" lang="sk-SK" sz="2200" spc="-1" strike="noStrike">
                <a:solidFill>
                  <a:srgbClr val="00b050"/>
                </a:solidFill>
                <a:latin typeface="Calibri"/>
              </a:rPr>
              <a:t>eňašel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eňavardeš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sk-SK" sz="2200" spc="-1" strike="noStrike">
                <a:solidFill>
                  <a:srgbClr val="ffc000"/>
                </a:solidFill>
                <a:latin typeface="Calibri"/>
              </a:rPr>
              <a:t>ocht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Maškar dešutne prithoveha phanduni </a:t>
            </a:r>
            <a:r>
              <a:rPr b="0" lang="sk-SK" sz="34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o berš </a:t>
            </a: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1" lang="sk-SK" sz="2200" spc="-1" strike="noStrike">
                <a:solidFill>
                  <a:srgbClr val="ffc000"/>
                </a:solidFill>
                <a:latin typeface="Calibri"/>
              </a:rPr>
              <a:t>4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duj ezeros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k-SK" sz="2200" spc="-1" strike="noStrike">
                <a:solidFill>
                  <a:srgbClr val="ffc000"/>
                </a:solidFill>
                <a:latin typeface="Calibri"/>
              </a:rPr>
              <a:t>štar </a:t>
            </a:r>
            <a:r>
              <a:rPr b="0" lang="sk-SK" sz="2200" spc="-1" strike="noStrike">
                <a:solidFill>
                  <a:srgbClr val="92d05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Kana nane šelutne u dešutne prithoveha phanduni maškar ezer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o berš 2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k-SK" sz="2200" spc="-1" strike="noStrike">
                <a:solidFill>
                  <a:srgbClr val="ff0000"/>
                </a:solidFill>
                <a:latin typeface="Calibri"/>
              </a:rPr>
              <a:t>duj ezros </a:t>
            </a:r>
            <a:r>
              <a:rPr b="0" lang="sk-SK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dešudu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Ak na mieste stoviek je nula a posledne číslo je od 11 -19  dávame medzi 1000 a Desiatku spojku 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Ak su čísle od 20 všyšie čítame to zvlášť ako desiatku plus jednotku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b0f0"/>
                </a:solidFill>
                <a:latin typeface="Calibri"/>
              </a:rPr>
              <a:t>2098 Duj ezeros eňavardeš zhe och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7:01:52Z</dcterms:created>
  <dc:creator>Gymnázium</dc:creator>
  <dc:description/>
  <dc:language>en-US</dc:language>
  <cp:lastModifiedBy>Gymnázium</cp:lastModifiedBy>
  <dcterms:modified xsi:type="dcterms:W3CDTF">2012-04-16T20:15:21Z</dcterms:modified>
  <cp:revision>1</cp:revision>
  <dc:subject/>
  <dc:title>Snímka 1</dc:title>
</cp:coreProperties>
</file>