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E24E-3FAA-43A8-9365-1021278A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7665-F006-4324-814F-64CA2BAB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D813-74F4-43A1-82FF-FE838448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0E7-A1C3-4C54-9FEE-81245721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042E-ACAF-458D-8682-3C790C33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74AA-6BC7-4267-A152-A151BD73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6F4E-EF42-4435-BE14-CF4B3688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EB91-6D85-4986-9AF3-C9D2575C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B351-84B8-467D-B3CA-6E381701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76FB-A51F-451C-9EB8-315F07F8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308A-1A93-4D56-B8A4-F0A95149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9BC-13C0-40E1-8C50-705F0064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DB64-0553-4F66-A296-F8F25FE7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AC0D-838F-4CC4-96A2-27AF5883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65AD-36D0-496B-88AB-668DBFC0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22CF-A4A8-4466-8F19-D358A777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549A-598F-471D-B0CA-A965966C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F0B0E-AD86-4ED8-B6DA-12079D08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640FB-0EDE-4951-9C17-F862CFEB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6BB74-182D-4C49-84EC-FD322E66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2375F-6FF7-482D-A47F-8995899F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1766F-BE3A-419F-A486-DE2AEA42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FA5-2DB5-474B-9B1D-FF5A6D38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7D3B6-5A05-4450-99F5-A5C7242E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E26B4-933F-46D8-A25D-4546441E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634C2-8788-478B-9CA7-74EBF95A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C1D87-9668-46C0-899D-4C7CA2A8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B6415-CCA9-4B36-9E11-85CF8764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1BEF3-9F4C-4BC6-84F4-7E321375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31FF2-1E67-472D-8D9E-3DB637C3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152EB-0A53-4F90-BFB1-725E8BB4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459C5-8C89-4EA9-B516-64AF40A0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9077D-AE91-4FB3-8B05-2F78352B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AD38-A395-447F-AD4F-27DD75DD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DA640-7502-4586-9D3B-37BC28B1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BE3F9-5C75-49AE-B0F8-F7171772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17B0D-879F-47FA-9B82-ADA19F2D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D1DF3-2B29-458A-871A-8263810B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9B976-CE28-4987-A9DF-0681C7BE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758F8-220F-4D47-A72A-44E09EBC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F8250-9423-4CCB-92B3-461BE39B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0B5CC-BA81-4EDD-B4C3-DCD0AB7B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3DF81-FA23-47E2-8E6D-125E6504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E3790-38DA-4113-BA2F-324E1238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AB2-0D3A-419B-82AB-5F892343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6A1E8-DE11-4438-91D2-18EC3661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25B94-6FCB-403C-928A-2238D5C4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7B516-D912-4232-8032-04C1A46C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43B88-5C2B-4597-A766-849814A4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715D7-A63D-4825-8FBF-312CD21E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BAA8A-2273-456B-B28A-81FCD186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83A2A-E306-4520-9595-7A9A9DCB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FDB2F-62CD-410E-ACB3-CA7B191C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109BE-4D7C-47E6-99FF-78A87768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2E559-5211-4344-BEC2-7AE6BD58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8E6-0DAB-409C-B491-22F8741A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C3CE8-029A-4D50-ABD8-8DCC884A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DD3-77AF-48C6-BF23-5A5AAA04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A30F-4F61-467D-A55E-0A33B918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C7B2-352C-4AB5-9AAB-56FBD472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dĺžnik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Obdĺžnik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1C41-755E-45D4-A59D-F865057B0350}" type="slidenum">
              <a:rPr b="0" lang="sk-SK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bdĺžnik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Obdĺžnik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Rovná spojnica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9A9D-33C7-4FE5-AFD8-86AE736F3A6A}" type="slidenum">
              <a:rPr b="0" lang="sk-SK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bdĺžnik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Obdĺžnik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BB9B-875F-45A7-AC66-8AE6E7CD64B1}" type="slidenum">
              <a:rPr b="0" lang="sk-SK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bdĺžni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Obdĺžni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1D23-D96C-480B-BD60-175766EA5D27}" type="slidenum">
              <a:rPr b="0" lang="sk-SK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Obdĺžnik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Obdĺžnik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997F-131C-48F6-946B-AB1B20BDA98F}" type="slidenum">
              <a:rPr b="0" lang="sk-SK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Nadpis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Trebuchet MS"/>
              </a:rPr>
              <a:t>Kerutne- peršo kla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Trebuchet MS"/>
              </a:rPr>
              <a:t>„</a:t>
            </a:r>
            <a:r>
              <a:rPr b="0" lang="sk-SK" sz="2200" spc="-1" strike="noStrike">
                <a:solidFill>
                  <a:srgbClr val="ffffff"/>
                </a:solidFill>
                <a:latin typeface="Trebuchet MS"/>
              </a:rPr>
              <a:t>te kerel“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Nadpis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0000"/>
                </a:solidFill>
                <a:latin typeface="Trebuchet MS"/>
              </a:rPr>
              <a:t>Rómske slovesá delíme do troch trie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0000"/>
                </a:solidFill>
                <a:latin typeface="Trebuchet MS"/>
              </a:rPr>
              <a:t>I. Trieda – kmeň slovesa je zakončený na spoluhlásku </a:t>
            </a:r>
            <a:r>
              <a:rPr b="0" lang="sk-SK" sz="2600" spc="-1" strike="noStrike">
                <a:solidFill>
                  <a:srgbClr val="002060"/>
                </a:solidFill>
                <a:latin typeface="Trebuchet MS"/>
              </a:rPr>
              <a:t>( kmeň slovesa je vlastne rozkazovací spôsob pre druhú osobu Sg. - 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tu ke</a:t>
            </a:r>
            <a:r>
              <a:rPr b="1" lang="sk-SK" sz="2600" spc="-1" strike="noStrike" u="sng">
                <a:solidFill>
                  <a:srgbClr val="ff0000"/>
                </a:solidFill>
                <a:uFillTx/>
                <a:latin typeface="Trebuchet MS"/>
              </a:rPr>
              <a:t>r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!  </a:t>
            </a:r>
            <a:r>
              <a:rPr b="0" lang="sk-SK" sz="2600" spc="-1" strike="noStrike">
                <a:solidFill>
                  <a:srgbClr val="00206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92d050"/>
                </a:solidFill>
                <a:latin typeface="Trebuchet MS"/>
              </a:rPr>
              <a:t>II.Trieda – kmeň slovesa je zakončený na samohlásku </a:t>
            </a:r>
            <a:r>
              <a:rPr b="1" lang="sk-SK" sz="2600" spc="-1" strike="noStrike">
                <a:solidFill>
                  <a:srgbClr val="ff0000"/>
                </a:solidFill>
                <a:latin typeface="Trebuchet MS"/>
              </a:rPr>
              <a:t>( tu ch</a:t>
            </a:r>
            <a:r>
              <a:rPr b="1" lang="sk-SK" sz="2600" spc="-1" strike="noStrike" u="sng">
                <a:solidFill>
                  <a:srgbClr val="ff0000"/>
                </a:solidFill>
                <a:uFillTx/>
                <a:latin typeface="Trebuchet MS"/>
              </a:rPr>
              <a:t>a</a:t>
            </a:r>
            <a:r>
              <a:rPr b="1" lang="sk-SK" sz="2600" spc="-1" strike="noStrike">
                <a:solidFill>
                  <a:srgbClr val="ff0000"/>
                </a:solidFill>
                <a:latin typeface="Trebuchet MS"/>
              </a:rPr>
              <a:t> ! 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0000"/>
                </a:solidFill>
                <a:latin typeface="Trebuchet MS"/>
              </a:rPr>
              <a:t>III. Triedu budeme preberať oveľa neskôr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Nadpis 1" descr=""/>
          <p:cNvPicPr/>
          <p:nvPr/>
        </p:nvPicPr>
        <p:blipFill>
          <a:blip r:embed="rId1"/>
          <a:stretch/>
        </p:blipFill>
        <p:spPr>
          <a:xfrm>
            <a:off x="244440" y="-225360"/>
            <a:ext cx="7461360" cy="1693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Budúci čas slovies tvoríme zo slovesa v prítomnom čas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 u="sng">
                <a:solidFill>
                  <a:srgbClr val="ff0000"/>
                </a:solidFill>
                <a:uFillTx/>
                <a:latin typeface="Trebuchet MS"/>
              </a:rPr>
              <a:t>Prítomný čas slovesa „te kerel“ ( kmeň sloves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 u="sng">
                <a:solidFill>
                  <a:srgbClr val="ff0000"/>
                </a:solidFill>
                <a:uFillTx/>
                <a:latin typeface="Trebuchet MS"/>
              </a:rPr>
              <a:t>–</a:t>
            </a:r>
            <a:r>
              <a:rPr b="0" lang="sk-SK" sz="2600" spc="-1" strike="noStrike" u="sng">
                <a:solidFill>
                  <a:srgbClr val="ff0000"/>
                </a:solidFill>
                <a:uFillTx/>
                <a:latin typeface="Trebuchet MS"/>
              </a:rPr>
              <a:t>ker-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 u="sng">
                <a:solidFill>
                  <a:srgbClr val="ff0000"/>
                </a:solidFill>
                <a:uFillTx/>
                <a:latin typeface="Trebuchet MS"/>
              </a:rPr>
              <a:t> 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Sg.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P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1 . ker- </a:t>
            </a:r>
            <a:r>
              <a:rPr b="0" lang="sk-SK" sz="2600" spc="-1" strike="noStrike">
                <a:solidFill>
                  <a:srgbClr val="00b050"/>
                </a:solidFill>
                <a:latin typeface="Trebuchet MS"/>
              </a:rPr>
              <a:t>av</a:t>
            </a:r>
            <a:r>
              <a:rPr b="0" lang="sk-SK" sz="2600" spc="-1" strike="noStrike">
                <a:solidFill>
                  <a:srgbClr val="00b05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ker- </a:t>
            </a:r>
            <a:r>
              <a:rPr b="0" lang="sk-SK" sz="2600" spc="-1" strike="noStrike">
                <a:solidFill>
                  <a:srgbClr val="00b050"/>
                </a:solidFill>
                <a:latin typeface="Trebuchet MS"/>
              </a:rPr>
              <a:t>a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2. ker- </a:t>
            </a:r>
            <a:r>
              <a:rPr b="0" lang="sk-SK" sz="2600" spc="-1" strike="noStrike">
                <a:solidFill>
                  <a:srgbClr val="00b050"/>
                </a:solidFill>
                <a:latin typeface="Trebuchet MS"/>
              </a:rPr>
              <a:t>es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ker- </a:t>
            </a:r>
            <a:r>
              <a:rPr b="0" lang="sk-SK" sz="2600" spc="-1" strike="noStrike">
                <a:solidFill>
                  <a:srgbClr val="00b050"/>
                </a:solidFill>
                <a:latin typeface="Trebuchet MS"/>
              </a:rPr>
              <a:t>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3. ker- </a:t>
            </a:r>
            <a:r>
              <a:rPr b="0" lang="sk-SK" sz="2600" spc="-1" strike="noStrike">
                <a:solidFill>
                  <a:srgbClr val="00b050"/>
                </a:solidFill>
                <a:latin typeface="Trebuchet MS"/>
              </a:rPr>
              <a:t>el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ker- </a:t>
            </a:r>
            <a:r>
              <a:rPr b="0" lang="sk-SK" sz="2600" spc="-1" strike="noStrike">
                <a:solidFill>
                  <a:srgbClr val="00b050"/>
                </a:solidFill>
                <a:latin typeface="Trebuchet MS"/>
              </a:rPr>
              <a:t>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Nadpis 1" descr=""/>
          <p:cNvPicPr/>
          <p:nvPr/>
        </p:nvPicPr>
        <p:blipFill>
          <a:blip r:embed="rId1"/>
          <a:stretch/>
        </p:blipFill>
        <p:spPr>
          <a:xfrm>
            <a:off x="0" y="353880"/>
            <a:ext cx="7864560" cy="16876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99680" y="1500120"/>
            <a:ext cx="707220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K slovesu v prítomnom čase pridávame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príponu- </a:t>
            </a:r>
            <a:r>
              <a:rPr b="0" lang="sk-SK" sz="4800" spc="-1" strike="noStrike">
                <a:solidFill>
                  <a:srgbClr val="ff0000"/>
                </a:solidFill>
                <a:latin typeface="Trebuchet MS"/>
              </a:rPr>
              <a:t>a. 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( v tvaroch zakončených na </a:t>
            </a:r>
            <a:r>
              <a:rPr b="0" lang="sk-SK" sz="2600" spc="-1" strike="noStrike" u="sng">
                <a:solidFill>
                  <a:srgbClr val="ff0000"/>
                </a:solidFill>
                <a:uFillTx/>
                <a:latin typeface="Trebuchet MS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v 2. os. sg. a v 1. os. pl. sa 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s 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mení na 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h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k-SK" sz="2600" spc="-1" strike="noStrike">
                <a:solidFill>
                  <a:srgbClr val="00b050"/>
                </a:solidFill>
                <a:latin typeface="Trebuchet MS"/>
              </a:rPr>
              <a:t>pred príponou </a:t>
            </a:r>
            <a:r>
              <a:rPr b="1" lang="sk-SK" sz="2600" spc="-1" strike="noStrike">
                <a:solidFill>
                  <a:srgbClr val="ff0000"/>
                </a:solidFill>
                <a:latin typeface="Trebuchet MS"/>
              </a:rPr>
              <a:t>a</a:t>
            </a:r>
            <a:r>
              <a:rPr b="1" lang="sk-SK" sz="2600" spc="-1" strike="noStrike">
                <a:solidFill>
                  <a:srgbClr val="00b050"/>
                </a:solidFill>
                <a:latin typeface="Trebuchet MS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Sg. 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P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Ker– </a:t>
            </a:r>
            <a:r>
              <a:rPr b="1" lang="sk-SK" sz="2600" spc="-1" strike="noStrike">
                <a:solidFill>
                  <a:srgbClr val="00b050"/>
                </a:solidFill>
                <a:latin typeface="Trebuchet MS"/>
              </a:rPr>
              <a:t>av-</a:t>
            </a:r>
            <a:r>
              <a:rPr b="1" lang="sk-SK" sz="2600" spc="-1" strike="noStrike">
                <a:solidFill>
                  <a:srgbClr val="ff0000"/>
                </a:solidFill>
                <a:latin typeface="Trebuchet MS"/>
              </a:rPr>
              <a:t>a 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ker- </a:t>
            </a:r>
            <a:r>
              <a:rPr b="1" lang="sk-SK" sz="2600" spc="-1" strike="noStrike">
                <a:solidFill>
                  <a:srgbClr val="00b050"/>
                </a:solidFill>
                <a:latin typeface="Trebuchet MS"/>
              </a:rPr>
              <a:t>a(s)h-</a:t>
            </a:r>
            <a:r>
              <a:rPr b="1" lang="sk-SK" sz="2600" spc="-1" strike="noStrike">
                <a:solidFill>
                  <a:srgbClr val="ff0000"/>
                </a:solidFill>
                <a:latin typeface="Trebuchet MS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ker- </a:t>
            </a:r>
            <a:r>
              <a:rPr b="1" lang="sk-SK" sz="2600" spc="-1" strike="noStrike">
                <a:solidFill>
                  <a:srgbClr val="00b050"/>
                </a:solidFill>
                <a:latin typeface="Trebuchet MS"/>
              </a:rPr>
              <a:t>e(s) h- </a:t>
            </a:r>
            <a:r>
              <a:rPr b="1" lang="sk-SK" sz="2600" spc="-1" strike="noStrike">
                <a:solidFill>
                  <a:srgbClr val="ff0000"/>
                </a:solidFill>
                <a:latin typeface="Trebuchet MS"/>
              </a:rPr>
              <a:t>a</a:t>
            </a:r>
            <a:r>
              <a:rPr b="1" lang="sk-SK" sz="2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ker- </a:t>
            </a:r>
            <a:r>
              <a:rPr b="1" lang="sk-SK" sz="2600" spc="-1" strike="noStrike">
                <a:solidFill>
                  <a:srgbClr val="00b050"/>
                </a:solidFill>
                <a:latin typeface="Trebuchet MS"/>
              </a:rPr>
              <a:t>en-</a:t>
            </a:r>
            <a:r>
              <a:rPr b="1" lang="sk-SK" sz="2600" spc="-1" strike="noStrike">
                <a:solidFill>
                  <a:srgbClr val="ff0000"/>
                </a:solidFill>
                <a:latin typeface="Trebuchet MS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ker- </a:t>
            </a:r>
            <a:r>
              <a:rPr b="1" lang="sk-SK" sz="2600" spc="-1" strike="noStrike">
                <a:solidFill>
                  <a:srgbClr val="00b050"/>
                </a:solidFill>
                <a:latin typeface="Trebuchet MS"/>
              </a:rPr>
              <a:t>el-</a:t>
            </a:r>
            <a:r>
              <a:rPr b="1" lang="sk-SK" sz="2600" spc="-1" strike="noStrike">
                <a:solidFill>
                  <a:srgbClr val="ff0000"/>
                </a:solidFill>
                <a:latin typeface="Trebuchet MS"/>
              </a:rPr>
              <a:t>a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ker- </a:t>
            </a:r>
            <a:r>
              <a:rPr b="1" lang="sk-SK" sz="2600" spc="-1" strike="noStrike">
                <a:solidFill>
                  <a:srgbClr val="00b050"/>
                </a:solidFill>
                <a:latin typeface="Trebuchet MS"/>
              </a:rPr>
              <a:t>en-</a:t>
            </a:r>
            <a:r>
              <a:rPr b="1" lang="sk-SK" sz="2600" spc="-1" strike="noStrike">
                <a:solidFill>
                  <a:srgbClr val="ff0000"/>
                </a:solidFill>
                <a:latin typeface="Trebuchet MS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Nadpis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Sg.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Pl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Me 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ker</a:t>
            </a:r>
            <a:r>
              <a:rPr b="1" lang="sk-SK" sz="2600" spc="-1" strike="noStrike">
                <a:solidFill>
                  <a:srgbClr val="00b050"/>
                </a:solidFill>
                <a:latin typeface="Trebuchet MS"/>
              </a:rPr>
              <a:t>ava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amen 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ker</a:t>
            </a:r>
            <a:r>
              <a:rPr b="1" lang="sk-SK" sz="2600" spc="-1" strike="noStrike">
                <a:solidFill>
                  <a:srgbClr val="00b050"/>
                </a:solidFill>
                <a:latin typeface="Trebuchet MS"/>
              </a:rPr>
              <a:t>ah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Tu 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ker</a:t>
            </a:r>
            <a:r>
              <a:rPr b="1" lang="sk-SK" sz="2600" spc="-1" strike="noStrike">
                <a:solidFill>
                  <a:srgbClr val="00b050"/>
                </a:solidFill>
                <a:latin typeface="Trebuchet MS"/>
              </a:rPr>
              <a:t>eha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tumen 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ker</a:t>
            </a:r>
            <a:r>
              <a:rPr b="1" lang="sk-SK" sz="2600" spc="-1" strike="noStrike">
                <a:solidFill>
                  <a:srgbClr val="00b050"/>
                </a:solidFill>
                <a:latin typeface="Trebuchet MS"/>
              </a:rPr>
              <a:t>e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Jov joj 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ker</a:t>
            </a:r>
            <a:r>
              <a:rPr b="1" lang="sk-SK" sz="2600" spc="-1" strike="noStrike">
                <a:solidFill>
                  <a:srgbClr val="00b050"/>
                </a:solidFill>
                <a:latin typeface="Trebuchet MS"/>
              </a:rPr>
              <a:t>ela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jon 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ker</a:t>
            </a:r>
            <a:r>
              <a:rPr b="1" lang="sk-SK" sz="2600" spc="-1" strike="noStrike">
                <a:solidFill>
                  <a:srgbClr val="00b050"/>
                </a:solidFill>
                <a:latin typeface="Trebuchet MS"/>
              </a:rPr>
              <a:t>e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13:17:06Z</dcterms:created>
  <dc:creator>Gymnázium</dc:creator>
  <dc:description/>
  <dc:language>en-US</dc:language>
  <cp:lastModifiedBy>Gymnázium</cp:lastModifiedBy>
  <dcterms:modified xsi:type="dcterms:W3CDTF">2012-04-16T18:40:02Z</dcterms:modified>
  <cp:revision>3</cp:revision>
  <dc:subject/>
  <dc:title>Angomiskero vacht </dc:title>
</cp:coreProperties>
</file>