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8D51B-D7CF-4465-9CA4-BBC792F1E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292E4-0AFB-46DB-BBBA-58C138D3A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AD444-9E6E-4DB9-9903-72B839667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63529-1F8C-44C8-ABB0-A8802EE42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9F63E-EDFF-4CF4-89F7-64A1FC6C1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54DF0-7A1F-4C16-B152-FDADEF6CE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EFA4C-2384-427A-88E1-AF727E028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02F18-E94D-4694-B8AB-058C8181C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2DBB0-2922-4AFF-90BD-3651EC128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0A45F-B005-4635-AB00-B4D933B7E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260A4-9423-457B-B249-9B9971B75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8E596-860D-4F72-A7DD-BF0D08859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5B170-4C99-4764-B796-CA774D562260}" type="slidenum">
              <a:rPr b="0" lang="sk-SK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285840" y="214200"/>
            <a:ext cx="8572320" cy="66438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44" name="Obdĺžnik 6"/>
          <p:cNvSpPr/>
          <p:nvPr/>
        </p:nvSpPr>
        <p:spPr>
          <a:xfrm>
            <a:off x="285840" y="214200"/>
            <a:ext cx="84294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Calibri"/>
              </a:rPr>
              <a:t>Dželem dželem, lungone  dromeha, maladile šukare Romeha 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Calibri"/>
              </a:rPr>
              <a:t>Dželem dželem lungone  dromeha, maladile šukare Romeha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Calibri"/>
              </a:rPr>
              <a:t>Haj Romale , haj čhavale. Haj Romale, haj čhaval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Obdĺžnik 7"/>
          <p:cNvSpPr/>
          <p:nvPr/>
        </p:nvSpPr>
        <p:spPr>
          <a:xfrm>
            <a:off x="500040" y="4929120"/>
            <a:ext cx="7715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Calibri"/>
              </a:rPr>
              <a:t>Imar sa sun, bari famiľija, bud adala jekh kali le giľa.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Calibri"/>
              </a:rPr>
              <a:t>Imar sa sun, bari famiľija, bud adala jekh kali le giľa. Haj romale jaj čhavale , Haj romale, jaj čhavale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hymna gelem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5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6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8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3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4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6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1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2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3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4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9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0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1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2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9200"/>
                            </p:stCondLst>
                            <p:childTnLst>
                              <p:par>
                                <p:cTn id="4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" dur="1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5T15:02:12Z</dcterms:created>
  <dc:creator>Ján Hero</dc:creator>
  <dc:description/>
  <dc:language>en-US</dc:language>
  <cp:lastModifiedBy>Gymnázium</cp:lastModifiedBy>
  <dcterms:modified xsi:type="dcterms:W3CDTF">2012-04-16T19:11:31Z</dcterms:modified>
  <cp:revision>3</cp:revision>
  <dc:subject/>
  <dc:title>Snímka 1</dc:title>
</cp:coreProperties>
</file>