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F22-4293-4A61-A8AE-6358C13B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8E5-99DF-4445-8746-BD51111A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F63-7EE2-4A6A-AC92-FB19F75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F62-3BA2-4249-98B3-0293FECB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26F-FE71-466C-BBA0-A7656A7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EC8-684B-4A61-A147-7056A21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AC6-54F8-44FA-8615-23DFB77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BDB-398E-460C-A4B2-387896D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CAF-1F6F-4D6C-B2E0-0E61FEA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F30-2B84-4797-938A-571A76B5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D14-BF59-4049-B7A8-8D12B5C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9C8-A838-4AE4-B65C-0E21CB6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F26A-20F0-423C-9000-BA111DDA50BC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292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https://fbcdn-sphotos-a.akamaihd.net/hphotos-ak-ash4/428712_356997650996066_100000575018827_1267347_1859617950_n.jpg"/>
          <p:cNvPicPr/>
          <p:nvPr/>
        </p:nvPicPr>
        <p:blipFill>
          <a:blip r:embed="rId1"/>
          <a:srcRect l="45102" t="19359" r="22685" b="39504"/>
          <a:stretch/>
        </p:blipFill>
        <p:spPr>
          <a:xfrm>
            <a:off x="6929280" y="5129280"/>
            <a:ext cx="203364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Obláčik 4"/>
          <p:cNvSpPr/>
          <p:nvPr/>
        </p:nvSpPr>
        <p:spPr>
          <a:xfrm>
            <a:off x="-1428840" y="-500040"/>
            <a:ext cx="9358560" cy="7358040"/>
          </a:xfrm>
          <a:prstGeom prst="cloudCallout">
            <a:avLst>
              <a:gd name="adj1" fmla="val 52148"/>
              <a:gd name="adj2" fmla="val 224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ačho ďiv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e man vičhinav e Libuš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Kamav tumenge te vakerel savo hino miro suno. But rado šunav e paramisa u rado vakerav  giľutne. Hin amen buter so rado akada keren vaš oda  mire amalenca kamenas  te thovel romano teatros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maro raj sikhľardo amenge phenďa , hoj mekh hino romano teatros andro foro Kašate vičinel úpes ROMATHAN odoj  sikhaven romane dikhľarďipna u lelas amen pro jekh dikhiben ,somas but lošarďi , hoj dikľom dikhiben „Sar o Midus rodelas e buťi  „ so irinďa e raňi Elena Lacková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Andri amari sikhaďi , hin amen sikhľuvibnaskero teatros,   me man odoj irinďom . Odoj amaro  šerutno amen prithoďa pro cirďipen andro rozhlasis . Amen cirdenas romaňi paramisa  ,odi so amen dikhenas  andro teatros  But pes mange oda lošarďa ,vaš oda me mange phenďom,  kana agorisaľovav e  sikhaďi  kamav te kerel profes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herečka vaj režiserka .   Kamav te kerel miri buťaha lošarďipen tikne čhavenge , duminav  hoj  arkava čhavore  so palis kerena adi profesia 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5:10:03Z</dcterms:created>
  <dc:creator>Gymnázium</dc:creator>
  <dc:description/>
  <dc:language>en-US</dc:language>
  <cp:lastModifiedBy>Gymnázium</cp:lastModifiedBy>
  <dcterms:modified xsi:type="dcterms:W3CDTF">2012-04-16T20:16:06Z</dcterms:modified>
  <cp:revision>2</cp:revision>
  <dc:subject/>
  <dc:title>Snímka 1</dc:title>
</cp:coreProperties>
</file>