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9D8-3228-4918-966D-BC5D251E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971-FF43-4DD4-9054-0DD918E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071-68C2-48D2-A02B-48AA0D2D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F4F-2974-46AE-BAE4-10AA2BC3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AB09-A427-4D8B-BE5C-C55AF75C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17AC-2D62-4FB3-ACDD-457FD81A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694A-1110-43DF-A576-EACF501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AB2F-EFB2-40F4-87C2-2F8E57EC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0EBD-6ECA-420F-B6C4-C30D085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966D-8337-48F2-8BED-84F401A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826-69DE-45D8-848A-6E8B658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4EF-2C17-4AB5-9169-34EB2CA6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B0D-490D-4DD8-B58D-FE4B1C2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7513-85E1-4540-8341-DB496EB6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AE60-EFE5-4B1D-94F4-A9CB6FB4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857B-8B53-4419-9180-385CC8CC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E787-3F3A-47E1-9333-69CFB48F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A4C4-C159-4676-B134-711A3488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ABFF-BCB6-4A5F-A628-F0747E50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FFEF5-2D13-409A-846D-D00B8B97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65E9-A3D6-4EDD-8717-436E0485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0445-F937-46C3-BA40-D8B9ACB4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21A-6711-40EA-89E9-3E1311B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7318-5C13-44E0-8F8F-15932708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4BE1-3BDF-47FD-8835-D241A87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D7CB-7871-4543-A039-008FF1C0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7013-9015-4D6B-AE37-3DE8428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B48E-CE24-4CB3-B382-34A4152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51A0-81E7-4091-94F1-9EE37FFA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FA19-D0FD-4043-AC32-100EBEC5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8C97-7A98-4FEE-84EA-A94B6E10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DA43C-A166-4787-B9AF-7064294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8001-656D-4EC4-9F51-C7B2858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55C-AB27-419C-9696-F22FF70A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2C1B2-577A-4A7E-862E-8C9B324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C97F-7540-4057-BE08-B1D8A800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9505-2F75-4062-A238-2BDBD0D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B9586-179F-4604-A429-65562F9D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9872-7C33-403C-83F6-FDFF3EA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1D51-A3B7-4F64-B626-359A034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B95D-98BE-4F49-9711-7FEB86F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4CC0-CF46-4672-A755-4A1877FF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FD05-DB74-4540-B634-05A10D90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7E25-B4C0-4AD9-90B1-8162F0C2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6E5-AE4B-403A-8FA0-BA47A75A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1E75E-1D55-4562-A3C6-1A9D30D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46073-156A-4D76-A13C-400790DA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05C7-2747-4790-9D68-18A05A9A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BC5A-4CFB-46D9-90D1-0D4489DD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73C72-865C-4A4E-90B3-7443732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0F44-47FA-4C73-85C2-0C2C132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E295-99B2-40FD-8201-14059D4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2558A-CA52-4EA5-A5E0-A939E8B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A68AB-8B6B-4C5F-89A1-13654B1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0C7F1-C33E-47C4-8898-A23BADB0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3D5-585E-4DA1-B8FD-0727E5F5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018DA-3D4F-4D29-B40A-7A419D28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760-C8F0-49BD-A532-F613E688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C64-7A21-449A-B7EE-ED70C3C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29C-99C3-4BCD-94CD-8205E33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DF4E-A285-4870-BC9E-96213C62936D}" type="slidenum">
              <a:rPr b="0" lang="sk-SK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Obdĺž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Obdĺž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Rovná spojnic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A08-406D-46D4-86EB-2C3949FC4B7A}" type="slidenum">
              <a:rPr b="0" lang="sk-SK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BC66-AF60-45E1-8523-A4B98C4CE15B}" type="slidenum">
              <a:rPr b="0" lang="sk-SK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ĺž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Obdĺž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EA05-336F-4713-865D-C61637BBFBA8}" type="slidenum">
              <a:rPr b="0" lang="sk-SK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Obdĺž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Obdĺž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59D9-0B69-41F6-B9F4-6580F1BE2039}" type="slidenum">
              <a:rPr b="0" lang="sk-SK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Nadpis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Trebuchet MS"/>
              </a:rPr>
              <a:t>Kerutne- peršo kla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Trebuchet MS"/>
              </a:rPr>
              <a:t>„</a:t>
            </a:r>
            <a:r>
              <a:rPr b="0" lang="sk-SK" sz="2200" spc="-1" strike="noStrike">
                <a:solidFill>
                  <a:srgbClr val="ffffff"/>
                </a:solidFill>
                <a:latin typeface="Trebuchet MS"/>
              </a:rPr>
              <a:t>te kerel“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Nadpis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Rómske slovesá delíme do troch tri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I. Trieda – kmeň slovesa je zakončený na spoluhlásku </a:t>
            </a:r>
            <a:r>
              <a:rPr b="0" lang="sk-SK" sz="2600" spc="-1" strike="noStrike">
                <a:solidFill>
                  <a:srgbClr val="002060"/>
                </a:solidFill>
                <a:latin typeface="Trebuchet MS"/>
              </a:rPr>
              <a:t>( kmeň slovesa je vlastne rozkazovací spôsob pre druhú osobu Sg. -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tu ke</a:t>
            </a:r>
            <a:r>
              <a:rPr b="1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r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!  </a:t>
            </a:r>
            <a:r>
              <a:rPr b="0" lang="sk-SK" sz="2600" spc="-1" strike="noStrike">
                <a:solidFill>
                  <a:srgbClr val="002060"/>
                </a:solidFill>
                <a:latin typeface="Trebuchet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92d050"/>
                </a:solidFill>
                <a:latin typeface="Trebuchet MS"/>
              </a:rPr>
              <a:t>II.Trieda – kmeň slovesa je zakončený na samohlásku 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( tu ch</a:t>
            </a:r>
            <a:r>
              <a:rPr b="1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a</a:t>
            </a: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 ! 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0000"/>
                </a:solidFill>
                <a:latin typeface="Trebuchet MS"/>
              </a:rPr>
              <a:t>III. Triedu budeme preberať oveľa neskôr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Nadpis 1" descr=""/>
          <p:cNvPicPr/>
          <p:nvPr/>
        </p:nvPicPr>
        <p:blipFill>
          <a:blip r:embed="rId1"/>
          <a:stretch/>
        </p:blipFill>
        <p:spPr>
          <a:xfrm>
            <a:off x="244440" y="-225360"/>
            <a:ext cx="7461360" cy="1693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Budúci čas slovies tvoríme zo slovesa v prítomnom čas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Prítomný čas slovesa „te kerel“ ( kmeň sloves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–</a:t>
            </a: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ker-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u="sng">
                <a:solidFill>
                  <a:srgbClr val="ff0000"/>
                </a:solidFill>
                <a:uFillTx/>
                <a:latin typeface="Trebuchet MS"/>
              </a:rPr>
              <a:t> 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Sg.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P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1 . 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av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2. 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s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3. 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l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ff0000"/>
                </a:solidFill>
                <a:latin typeface="Trebuchet MS"/>
              </a:rPr>
              <a:t>ker- </a:t>
            </a:r>
            <a:r>
              <a:rPr b="0" lang="sk-SK" sz="2600" spc="-1" strike="noStrike">
                <a:solidFill>
                  <a:srgbClr val="00b050"/>
                </a:solidFill>
                <a:latin typeface="Trebuchet MS"/>
              </a:rPr>
              <a:t>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Nadpis 1" descr=""/>
          <p:cNvPicPr/>
          <p:nvPr/>
        </p:nvPicPr>
        <p:blipFill>
          <a:blip r:embed="rId1"/>
          <a:stretch/>
        </p:blipFill>
        <p:spPr>
          <a:xfrm>
            <a:off x="0" y="353880"/>
            <a:ext cx="7864560" cy="1687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99680" y="1500120"/>
            <a:ext cx="70722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 slovesu v prítomnom čase pridávam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príponu- </a:t>
            </a:r>
            <a:r>
              <a:rPr b="0" lang="sk-SK" sz="4400" spc="-1" strike="noStrike">
                <a:solidFill>
                  <a:srgbClr val="ff0000"/>
                </a:solidFill>
                <a:latin typeface="Trebuchet MS"/>
              </a:rPr>
              <a:t>as. 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( v tvaroch zakončených na 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Trebuchet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v 2. os. sg. a v 1. os. pl. sa </a:t>
            </a:r>
            <a:r>
              <a:rPr b="0" lang="sk-SK" sz="2400" spc="-1" strike="noStrike">
                <a:solidFill>
                  <a:srgbClr val="ff0000"/>
                </a:solidFill>
                <a:latin typeface="Trebuchet MS"/>
              </a:rPr>
              <a:t>s 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mení na </a:t>
            </a:r>
            <a:r>
              <a:rPr b="0" lang="sk-SK" sz="2400" spc="-1" strike="noStrike">
                <a:solidFill>
                  <a:srgbClr val="ff0000"/>
                </a:solidFill>
                <a:latin typeface="Trebuchet MS"/>
              </a:rPr>
              <a:t>h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pred príponou 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 </a:t>
            </a:r>
            <a:r>
              <a:rPr b="0" lang="sk-SK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sk-SK" sz="2400" spc="-1" strike="noStrike" u="sng">
                <a:solidFill>
                  <a:srgbClr val="ff0000"/>
                </a:solidFill>
                <a:uFillTx/>
                <a:latin typeface="Trebuchet MS"/>
              </a:rPr>
              <a:t>Imperfektum – minulý čas nedokonav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Sg. 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er–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av-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s 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a(s)h-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e(s) h- 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s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en-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el-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s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rebuchet MS"/>
              </a:rPr>
              <a:t>ker- </a:t>
            </a:r>
            <a:r>
              <a:rPr b="1" lang="sk-SK" sz="2400" spc="-1" strike="noStrike">
                <a:solidFill>
                  <a:srgbClr val="00b050"/>
                </a:solidFill>
                <a:latin typeface="Trebuchet MS"/>
              </a:rPr>
              <a:t>en-</a:t>
            </a:r>
            <a:r>
              <a:rPr b="1" lang="sk-SK" sz="2400" spc="-1" strike="noStrike">
                <a:solidFill>
                  <a:srgbClr val="ff0000"/>
                </a:solidFill>
                <a:latin typeface="Trebuchet MS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Nadpis 1" descr=""/>
          <p:cNvPicPr/>
          <p:nvPr/>
        </p:nvPicPr>
        <p:blipFill>
          <a:blip r:embed="rId1"/>
          <a:stretch/>
        </p:blipFill>
        <p:spPr>
          <a:xfrm>
            <a:off x="493560" y="328680"/>
            <a:ext cx="7255080" cy="1176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Trebuchet MS"/>
              </a:rPr>
              <a:t>Tvorí sa od kmeňa slovesa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0000"/>
                </a:solidFill>
                <a:latin typeface="Trebuchet MS"/>
              </a:rPr>
              <a:t>„</a:t>
            </a:r>
            <a:r>
              <a:rPr b="0" lang="sk-SK" sz="4000" spc="-1" strike="noStrike">
                <a:solidFill>
                  <a:srgbClr val="ff0000"/>
                </a:solidFill>
                <a:latin typeface="Trebuchet MS"/>
              </a:rPr>
              <a:t>te kerel“ – neurčitok slovesa </a:t>
            </a:r>
            <a:r>
              <a:rPr b="0" lang="sk-SK" sz="4000" spc="-1" strike="noStrike">
                <a:solidFill>
                  <a:srgbClr val="00b050"/>
                </a:solidFill>
                <a:latin typeface="Trebuchet MS"/>
              </a:rPr>
              <a:t>- ker</a:t>
            </a:r>
            <a:r>
              <a:rPr b="0" lang="sk-SK" sz="4000" spc="-1" strike="noStrike">
                <a:solidFill>
                  <a:srgbClr val="000000"/>
                </a:solidFill>
                <a:latin typeface="Trebuchet MS"/>
              </a:rPr>
              <a:t>-        </a:t>
            </a:r>
            <a:r>
              <a:rPr b="0" lang="sk-SK" sz="4000" spc="-1" strike="noStrike">
                <a:solidFill>
                  <a:srgbClr val="00b050"/>
                </a:solidFill>
                <a:latin typeface="Trebuchet MS"/>
              </a:rPr>
              <a:t>kmeň slovesa,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rebuchet MS"/>
              </a:rPr>
              <a:t>kde dochádza k mäkčeniu spoluhlások </a:t>
            </a:r>
            <a:r>
              <a:rPr b="0" lang="sk-SK" sz="4000" spc="-1" strike="noStrike">
                <a:solidFill>
                  <a:srgbClr val="00b050"/>
                </a:solidFill>
                <a:latin typeface="Trebuchet MS"/>
              </a:rPr>
              <a:t>d, t, n, l</a:t>
            </a:r>
            <a:r>
              <a:rPr b="0" lang="sk-SK" sz="4000" spc="-1" strike="noStrike">
                <a:solidFill>
                  <a:srgbClr val="000000"/>
                </a:solidFill>
                <a:latin typeface="Trebuchet MS"/>
              </a:rPr>
              <a:t>, vo všetkých osobách okrem </a:t>
            </a:r>
            <a:r>
              <a:rPr b="1" lang="sk-SK" sz="4000" spc="-1" strike="noStrike" u="sng">
                <a:solidFill>
                  <a:srgbClr val="c00000"/>
                </a:solidFill>
                <a:uFillTx/>
                <a:latin typeface="Trebuchet MS"/>
              </a:rPr>
              <a:t>3. os. pl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Sg.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Trebuchet MS"/>
              </a:rPr>
              <a:t>Pl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Me </a:t>
            </a:r>
            <a:r>
              <a:rPr b="0" lang="sk-SK" sz="2800" spc="-1" strike="noStrike">
                <a:solidFill>
                  <a:srgbClr val="ff0000"/>
                </a:solidFill>
                <a:latin typeface="Trebuchet MS"/>
              </a:rPr>
              <a:t>ker-</a:t>
            </a:r>
            <a:r>
              <a:rPr b="1" lang="sk-SK" sz="2800" spc="-1" strike="noStrike">
                <a:solidFill>
                  <a:srgbClr val="00b050"/>
                </a:solidFill>
                <a:latin typeface="Trebuchet MS"/>
              </a:rPr>
              <a:t>ďom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amen </a:t>
            </a:r>
            <a:r>
              <a:rPr b="0" lang="sk-SK" sz="2800" spc="-1" strike="noStrike">
                <a:solidFill>
                  <a:srgbClr val="ff0000"/>
                </a:solidFill>
                <a:latin typeface="Trebuchet MS"/>
              </a:rPr>
              <a:t>ker-</a:t>
            </a:r>
            <a:r>
              <a:rPr b="1" lang="sk-SK" sz="2800" spc="-1" strike="noStrike">
                <a:solidFill>
                  <a:srgbClr val="00b050"/>
                </a:solidFill>
                <a:latin typeface="Trebuchet MS"/>
              </a:rPr>
              <a:t>ď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Tu </a:t>
            </a:r>
            <a:r>
              <a:rPr b="0" lang="sk-SK" sz="2800" spc="-1" strike="noStrike">
                <a:solidFill>
                  <a:srgbClr val="ff0000"/>
                </a:solidFill>
                <a:latin typeface="Trebuchet MS"/>
              </a:rPr>
              <a:t>ker-</a:t>
            </a:r>
            <a:r>
              <a:rPr b="1" lang="sk-SK" sz="2800" spc="-1" strike="noStrike">
                <a:solidFill>
                  <a:srgbClr val="00b050"/>
                </a:solidFill>
                <a:latin typeface="Trebuchet MS"/>
              </a:rPr>
              <a:t>ďal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tumen </a:t>
            </a:r>
            <a:r>
              <a:rPr b="0" lang="sk-SK" sz="2800" spc="-1" strike="noStrike">
                <a:solidFill>
                  <a:srgbClr val="ff0000"/>
                </a:solidFill>
                <a:latin typeface="Trebuchet MS"/>
              </a:rPr>
              <a:t>ker-</a:t>
            </a:r>
            <a:r>
              <a:rPr b="1" lang="sk-SK" sz="2800" spc="-1" strike="noStrike">
                <a:solidFill>
                  <a:srgbClr val="00b050"/>
                </a:solidFill>
                <a:latin typeface="Trebuchet MS"/>
              </a:rPr>
              <a:t>ď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Jov joj </a:t>
            </a:r>
            <a:r>
              <a:rPr b="0" lang="sk-SK" sz="2800" spc="-1" strike="noStrike">
                <a:solidFill>
                  <a:srgbClr val="ff0000"/>
                </a:solidFill>
                <a:latin typeface="Trebuchet MS"/>
              </a:rPr>
              <a:t>ker-</a:t>
            </a:r>
            <a:r>
              <a:rPr b="1" lang="sk-SK" sz="2800" spc="-1" strike="noStrike">
                <a:solidFill>
                  <a:srgbClr val="00b050"/>
                </a:solidFill>
                <a:latin typeface="Trebuchet MS"/>
              </a:rPr>
              <a:t>ďa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rebuchet MS"/>
              </a:rPr>
              <a:t>jon </a:t>
            </a:r>
            <a:r>
              <a:rPr b="0" lang="sk-SK" sz="2800" spc="-1" strike="noStrike">
                <a:solidFill>
                  <a:srgbClr val="ff0000"/>
                </a:solidFill>
                <a:latin typeface="Trebuchet MS"/>
              </a:rPr>
              <a:t>ker-</a:t>
            </a:r>
            <a:r>
              <a:rPr b="1" lang="sk-SK" sz="2800" spc="-1" strike="noStrike">
                <a:solidFill>
                  <a:srgbClr val="00b050"/>
                </a:solidFill>
                <a:latin typeface="Trebuchet MS"/>
              </a:rPr>
              <a:t>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3:17:06Z</dcterms:created>
  <dc:creator>Gymnázium</dc:creator>
  <dc:description/>
  <dc:language>en-US</dc:language>
  <cp:lastModifiedBy>Gymnázium</cp:lastModifiedBy>
  <dcterms:modified xsi:type="dcterms:W3CDTF">2012-04-16T18:39:24Z</dcterms:modified>
  <cp:revision>2</cp:revision>
  <dc:subject/>
  <dc:title>Angomiskero vacht </dc:title>
</cp:coreProperties>
</file>