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himes.wav" ContentType="audio/x-wav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DF6-AA43-4868-B84D-830BF021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5F9-A1E7-4DC4-83F5-3CEE28DB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FBC-7D89-4096-8BC0-C9806853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62F-F924-47E0-BD77-84A51FD2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E81-9DE0-4B5A-8AB9-3370DEDA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CE1-CF16-4CF6-AA0F-A049D6CD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8B5-7018-4EFC-816D-37432F6F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B0F-E21E-4676-87A0-51855CB5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A37-4093-4225-BAA2-7B0CEED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C65-9415-454C-BBA8-72426EA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4AE-E247-4CD3-904B-B6AE31FB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49E-F081-46B1-ACD2-96C48F3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B85-2148-4025-A725-093397961F59}" type="slidenum">
              <a:rPr b="0" lang="sk-SK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Pro slovačiko čhib pes sikhľares te irinel slovačikoha čhibah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000240" y="42876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Calibri"/>
              </a:rPr>
              <a:t>Pro športos tu sikľares te chuťker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28960" y="2571840"/>
            <a:ext cx="3571920" cy="23479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e matematika pes sikhľares te rachinel o ginut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4286160" cy="33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5715000" y="3214800"/>
            <a:ext cx="2666880" cy="17143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o čitrarďipen pes sikhľos te čitrarel </a:t>
            </a:r>
            <a:br>
              <a:rPr sz="4000"/>
            </a:b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o čitro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14680" y="2643120"/>
            <a:ext cx="5214600" cy="3500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o romaňi čhib tut sikhľos o čhib tires amali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14760" y="307188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Calibri"/>
              </a:rPr>
              <a:t>Pro anglikaňi čhib pes sikhľos lumakero čhi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143160" y="371484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20:18:28Z</dcterms:created>
  <dc:creator>Gymnázium</dc:creator>
  <dc:description/>
  <dc:language>en-US</dc:language>
  <cp:lastModifiedBy>Riaditeľ</cp:lastModifiedBy>
  <dcterms:modified xsi:type="dcterms:W3CDTF">2013-01-09T11:37:16Z</dcterms:modified>
  <cp:revision>3</cp:revision>
  <dc:subject/>
  <dc:title>Pro slovačiko čhib pes sikhľares te irinel slovačikoha čhibaha </dc:title>
</cp:coreProperties>
</file>